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B8141-97C3-4541-A390-D4812A7F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DD418-8979-4584-865C-E5EA4D49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FF72E-05E9-4363-BBDC-88ED4933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A0FD5-ED9F-4B65-9CC1-D95AD1AC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10EBA-CDE9-43C0-BA87-C8967B39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B9781-693D-47B4-AA53-BD592E17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903EA-CE14-4A27-9C28-3FC650F0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7B19A-C85C-49B0-97ED-2797A645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04ED0-1839-4820-877E-1AA73DC8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B5846-A6A0-4999-B720-B9A2569E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BB7BE-9A3D-4F8F-8D8F-CAB66291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41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84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002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41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84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8C7BD-A366-4447-ACE5-CEEEFAF8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01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01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02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0119-67C4-4666-AC3A-C4AB7CD222FC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Evaluación de riesgos psicosocia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Resultados en empresa XXX.  Porcentaje de trabajadoras/es en cada nivel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"/>
          <p:cNvSpPr/>
          <p:nvPr/>
        </p:nvSpPr>
        <p:spPr>
          <a:xfrm>
            <a:off x="5679720" y="76212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82280" y="1828800"/>
            <a:ext cx="7602480" cy="4811760"/>
            <a:chOff x="782280" y="1828800"/>
            <a:chExt cx="7602480" cy="4811760"/>
          </a:xfrm>
        </p:grpSpPr>
        <p:sp>
          <p:nvSpPr>
            <p:cNvPr id="103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70080" y="41796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70080" y="302580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0080" y="1870920"/>
              <a:ext cx="71136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70080" y="1870920"/>
              <a:ext cx="7113600" cy="346248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960" y="2945160"/>
              <a:ext cx="135720" cy="23878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11440" y="3151440"/>
              <a:ext cx="135720" cy="2181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9480" y="2775960"/>
              <a:ext cx="134640" cy="2557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7880" y="4692240"/>
              <a:ext cx="135720" cy="640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26280" y="3492360"/>
              <a:ext cx="135720" cy="18410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65760" y="2972880"/>
              <a:ext cx="135720" cy="2360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03800" y="2422080"/>
              <a:ext cx="137160" cy="2911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43280" y="2242080"/>
              <a:ext cx="134640" cy="3090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1680" y="2665080"/>
              <a:ext cx="135720" cy="26679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0080" y="4280040"/>
              <a:ext cx="135720" cy="10530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9560" y="3282120"/>
              <a:ext cx="135720" cy="20509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7600" y="3219120"/>
              <a:ext cx="135720" cy="21142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37080" y="4106880"/>
              <a:ext cx="135720" cy="122616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75480" y="3715920"/>
              <a:ext cx="134640" cy="16174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13880" y="3736800"/>
              <a:ext cx="135720" cy="159624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51920" y="3663000"/>
              <a:ext cx="135720" cy="16704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91400" y="4033080"/>
              <a:ext cx="135720" cy="13003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9800" y="4429440"/>
              <a:ext cx="135720" cy="9036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69280" y="4142520"/>
              <a:ext cx="134640" cy="119052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06240" y="2785320"/>
              <a:ext cx="137520" cy="254808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45720" y="3036600"/>
              <a:ext cx="135720" cy="2296800"/>
            </a:xfrm>
            <a:prstGeom prst="rect">
              <a:avLst/>
            </a:prstGeom>
            <a:solidFill>
              <a:srgbClr val="ff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960" y="2154960"/>
              <a:ext cx="135720" cy="79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1440" y="2256480"/>
              <a:ext cx="135720" cy="894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49480" y="2577960"/>
              <a:ext cx="134640" cy="198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87880" y="3661560"/>
              <a:ext cx="135720" cy="10306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26280" y="2547360"/>
              <a:ext cx="135720" cy="944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65760" y="2346480"/>
              <a:ext cx="135720" cy="6260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03800" y="2016360"/>
              <a:ext cx="137160" cy="405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43280" y="2026800"/>
              <a:ext cx="134640" cy="215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81680" y="2120400"/>
              <a:ext cx="135720" cy="5443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0080" y="3481920"/>
              <a:ext cx="135720" cy="7981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59560" y="2543400"/>
              <a:ext cx="135720" cy="73872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97600" y="2216880"/>
              <a:ext cx="135720" cy="10018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7080" y="3261240"/>
              <a:ext cx="135720" cy="84564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75480" y="3201480"/>
              <a:ext cx="134640" cy="5140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13880" y="2575080"/>
              <a:ext cx="135720" cy="11613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1920" y="2800080"/>
              <a:ext cx="135720" cy="8625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91400" y="2596320"/>
              <a:ext cx="135720" cy="14364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9800" y="2598840"/>
              <a:ext cx="135720" cy="18306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9280" y="3360240"/>
              <a:ext cx="134640" cy="78228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06240" y="2308320"/>
              <a:ext cx="137520" cy="4770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45720" y="2336040"/>
              <a:ext cx="135720" cy="70020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1960" y="1868040"/>
              <a:ext cx="135720" cy="286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1440" y="1868040"/>
              <a:ext cx="135720" cy="38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49480" y="1868040"/>
              <a:ext cx="134640" cy="7095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87880" y="1868040"/>
              <a:ext cx="135720" cy="17931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26280" y="1868040"/>
              <a:ext cx="135720" cy="678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65760" y="1868040"/>
              <a:ext cx="135720" cy="478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3800" y="1868040"/>
              <a:ext cx="137160" cy="14796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43280" y="1868040"/>
              <a:ext cx="134640" cy="1584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81680" y="1868040"/>
              <a:ext cx="135720" cy="252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20080" y="1868040"/>
              <a:ext cx="135720" cy="16135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59560" y="1868040"/>
              <a:ext cx="135720" cy="67500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97600" y="1868040"/>
              <a:ext cx="135720" cy="348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37080" y="1868040"/>
              <a:ext cx="135720" cy="1392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75480" y="1868040"/>
              <a:ext cx="134640" cy="13330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13880" y="1868040"/>
              <a:ext cx="135720" cy="706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1920" y="1868040"/>
              <a:ext cx="135720" cy="9316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91400" y="1868040"/>
              <a:ext cx="135720" cy="72828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29800" y="1868040"/>
              <a:ext cx="135720" cy="7304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69280" y="1868040"/>
              <a:ext cx="134640" cy="14918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806240" y="1868040"/>
              <a:ext cx="137520" cy="43992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45720" y="1868040"/>
              <a:ext cx="135720" cy="467640"/>
            </a:xfrm>
            <a:prstGeom prst="rect">
              <a:avLst/>
            </a:prstGeom>
            <a:solidFill>
              <a:srgbClr val="00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70080" y="1870920"/>
              <a:ext cx="1080" cy="346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40920" y="53334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40920" y="4179600"/>
              <a:ext cx="28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40920" y="302580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0920" y="1870920"/>
              <a:ext cx="28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70080" y="5333400"/>
              <a:ext cx="711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2700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0956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9476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2860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254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96388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30372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6414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9798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3182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6580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99572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355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6739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6012000" y="5333400"/>
              <a:ext cx="144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35184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6898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0293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73677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70616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04420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8383680" y="5333400"/>
              <a:ext cx="108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23400" y="528984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,0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9040" y="413712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,3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69040" y="298224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,6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040" y="1828800"/>
              <a:ext cx="39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9,90%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8900000">
              <a:off x="766080" y="5623920"/>
              <a:ext cx="832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8900000">
              <a:off x="601560" y="5763600"/>
              <a:ext cx="156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uantitativas 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8900000">
              <a:off x="987120" y="5758560"/>
              <a:ext cx="1476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sensori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900000">
              <a:off x="1378080" y="5739840"/>
              <a:ext cx="1405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cognitiva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900000">
              <a:off x="1620000" y="5773320"/>
              <a:ext cx="1538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xigencias psic. emocional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8900000">
              <a:off x="2278440" y="5671080"/>
              <a:ext cx="1107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conder emociones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900000">
              <a:off x="3048120" y="5527080"/>
              <a:ext cx="52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luenci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8900000">
              <a:off x="2378880" y="5857920"/>
              <a:ext cx="1881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sobre los tiempos de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8900000">
              <a:off x="3069360" y="5739840"/>
              <a:ext cx="1410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desarroll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8900000">
              <a:off x="3718080" y="5637960"/>
              <a:ext cx="99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do d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8900000">
              <a:off x="3780360" y="5732640"/>
              <a:ext cx="1363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tegración en la empres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8900000">
              <a:off x="4657680" y="5554800"/>
              <a:ext cx="63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segur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900000">
              <a:off x="4888440" y="5593320"/>
              <a:ext cx="780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laridad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8900000">
              <a:off x="5214960" y="559584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flicto de ro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8900000">
              <a:off x="5620680" y="5571720"/>
              <a:ext cx="71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evisibilidad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8900000">
              <a:off x="5481000" y="5730840"/>
              <a:ext cx="1352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poyo social en el trabaj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8900000">
              <a:off x="6457680" y="5533920"/>
              <a:ext cx="46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8900000">
              <a:off x="5948280" y="5799600"/>
              <a:ext cx="163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ibilidades de relación social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8900000">
              <a:off x="6666840" y="5673600"/>
              <a:ext cx="1125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ntimiento de grup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8900000">
              <a:off x="7037280" y="5661720"/>
              <a:ext cx="1082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lidad de liderazgo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8900000">
              <a:off x="7895520" y="5493960"/>
              <a:ext cx="38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stima </a:t>
              </a:r>
              <a:endParaRPr b="0" lang="en-US" sz="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La dirección y l@s delegad@s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han acordado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que los resultados son oportunidades para negociar y </a:t>
            </a: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desarrollar alternativas más saludables de organización del trabajo.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Se trata de introducir cambios en las condiciones de trabajo favorables a la salud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8040" y="531720"/>
            <a:ext cx="8610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32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oces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uerd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mité de Seguridad y Salud                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9480" indent="-33948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nstitución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u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QUIENxxxx.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unciones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cidir unidades de análisi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Garantizar anonimato y confidencialidad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omunicación al conjunto de la plantill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tribución y recogida de cuestionari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nálisis de resultados y redacción informe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ropuestas de mejora: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iscusió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mplement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medidas preven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2590920"/>
            <a:ext cx="1295280" cy="761760"/>
          </a:xfrm>
          <a:prstGeom prst="wedgeRoundRectCallout">
            <a:avLst>
              <a:gd name="adj1" fmla="val -112379"/>
              <a:gd name="adj2" fmla="val 52916"/>
              <a:gd name="adj3" fmla="val 16667"/>
            </a:avLst>
          </a:prstGeom>
          <a:solidFill>
            <a:srgbClr val="dddddd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quí 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tamos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Es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imprescindible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 Quien mejor conoce su trabajo es sin duda quien lo realiza y no hay aparato que mida los factores de riesgo psicosocial: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TESTA EL CUESTION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puntual información del estado de la evalua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endrás los resultados y la oportunidad de discutirl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rás en la selección y puesta en marcha de medidas preventivas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10663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ff0000"/>
                </a:solidFill>
                <a:latin typeface="Futura Md BT"/>
              </a:rPr>
              <a:t>Por una organización del trabajo más saludable</a:t>
            </a:r>
            <a:endParaRPr b="1" lang="en-US" sz="40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969696"/>
                </a:solidFill>
                <a:latin typeface="Futura Md BT"/>
              </a:rPr>
              <a:t>PARTICIPA</a:t>
            </a:r>
            <a:endParaRPr b="0" lang="en-US" sz="9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iesgos psicosociales: características de la organización del trabajo nocivas para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xceso de exigencias psicológic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influencia y de desarroll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lta de apoyo y de calidad de lideraz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casas compensacion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strés: mecanismos de ac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isiológ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problemas de estómago, dolor en el pecho, tensión en los músculos, dolor de cabeza, sudar más, marearse, faltar el aire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mocion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sentimientos de ansiedad, depresión, apatí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gnitiv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poder concentrarse, tener dificultades para acordarse de las cosas, para pensar de forma clara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mportamental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no tener ganas de estar con gente, sentirse agobiado/a, infeliz, no poder dormir bien, abusar de la comida, alcohol, tabaco...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gún su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intensi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frecuencia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dur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, pueden ser precursores de enferme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380880"/>
            <a:ext cx="807876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Futura Md BT"/>
              </a:rPr>
              <a:t>Efectos: el estrés y después</a:t>
            </a:r>
            <a:endParaRPr b="1" lang="en-US" sz="32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usculoesqueléticas</a:t>
            </a:r>
            <a:br>
              <a:rPr sz="2400"/>
            </a:b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dolor de espalda, contracturas) (Hemingway 1997; Bongers 1993).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Stansfeld 1999).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684360" y="260280"/>
            <a:ext cx="75546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Conocer para prevenir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Evaluar es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identificar las exposiciones (los problemas),  medirlas (valorar la prevalencia y la gravedad),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localizarlas (ver dónde se dan más: puesto, departamento, sexo, turno...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0000"/>
                </a:solidFill>
                <a:latin typeface="Futura Md BT"/>
              </a:rPr>
              <a:t>Para prevenir: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ambiar las características de la organización del trabajo que causan daños a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¿Cómo conocemos?: realizando la evaluación de riesgos psicosocial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</a:t>
            </a:r>
            <a:r>
              <a:rPr b="0" lang="es-ES" sz="3200" spc="-1" strike="noStrike">
                <a:solidFill>
                  <a:srgbClr val="333333"/>
                </a:solidFill>
                <a:latin typeface="Futura Md BT"/>
              </a:rPr>
              <a:t>científico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que expliquen salud,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r>
              <a:rPr b="1" lang="es-ES" sz="2400" spc="-1" strike="noStrike">
                <a:solidFill>
                  <a:srgbClr val="993366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ón en castellano del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uestionario Psicosocial de Copenha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n intervenido: AMI, ISTAS, INSHT, CSCST, UPF, UAB, M. Fraternidad, HIGIA-CONC</a:t>
            </a:r>
            <a:r>
              <a:rPr b="0" lang="es-ES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7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individual para evaluar la organización del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estionario anónimo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sin identificación)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Tratamiento confidencial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(por personal ajeno y sujeto al mantenimiento del secreto)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Futura Md BT"/>
              </a:rPr>
              <a:t>Cuatro secciones: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969696"/>
                </a:solidFill>
                <a:latin typeface="Futura Md BT"/>
              </a:rPr>
              <a:t>datos sociodemográficos, sintomatología de estrés, condiciones de trabajo, exposición a factores de riesgos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uestionario individual para evaluar la organización del trabaj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11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2:43Z</dcterms:modified>
  <cp:revision>137</cp:revision>
  <dc:subject/>
  <dc:title>La importància de l’avaluació de l’estrès en el treball  Consorci Sanitari Parc Taulí, Sabadell 22 de Maig de 2002</dc:title>
</cp:coreProperties>
</file>