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6ABB1-26DC-41D1-A860-F2DB33B3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5D786-4EA4-4B47-8F8F-545701DA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5596A-08AA-4C10-89C8-40928283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F3893-E21D-4609-8FE8-D13231E4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F7279-9AAC-4A4F-AD7B-14E2BEFE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8BF21-D895-4227-AD96-1EA1C34A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1D6F4-F5F6-4313-A5BE-0D6FDFC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55736-7AD2-4C3C-9EF4-A104BAC6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663A9-48E1-4ED1-BFC7-AC3E0FB5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B751E-6A89-42C8-AB67-0EF41087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E8FE5-35E1-4728-8CB7-D3322A00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779C2-1C1C-43F3-BD0D-C3F03965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3" marL="1600200" indent="-2286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4" marL="2057400" indent="-228600">
              <a:spcBef>
                <a:spcPts val="601"/>
              </a:spcBef>
              <a:buClr>
                <a:srgbClr val="ff000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5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6" marL="2057400" indent="-228600">
              <a:spcBef>
                <a:spcPts val="601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451640" y="6129360"/>
            <a:ext cx="13892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DF1F-0A20-4E5E-9533-565125E3454E}" type="slidenum">
              <a:rPr b="0" lang="es-E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5593" t="0" r="32517" b="40690"/>
          <a:stretch/>
        </p:blipFill>
        <p:spPr>
          <a:xfrm>
            <a:off x="7543800" y="6172200"/>
            <a:ext cx="852480" cy="37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475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Futura Md BT"/>
              </a:rPr>
              <a:t>Second Outline Leve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Font typeface="Futura Md B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Futura Md BT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2640" y="3581280"/>
            <a:ext cx="6629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Una nueva herramienta </a:t>
            </a:r>
            <a:br>
              <a:rPr sz="2400"/>
            </a:b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de  evaluación e intervención preventiva del riesgo psicoso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0952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Futura Md BT"/>
              </a:rPr>
              <a:t>D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imensiones de la organización del trabajo que afectan la salud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Exigencias psicológicas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Karasek 1979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Influencia y desarrollo en el trabajo</a:t>
            </a:r>
            <a:r>
              <a:rPr b="1" lang="es-ES_tradnl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4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Karasek 1979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Apoyo social y calidad de liderazgo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Johnson 1988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C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mpensaciones </a:t>
            </a: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del trabajo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Siegrist 1990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33"/>
                </a:solidFill>
                <a:latin typeface="Futura Md BT"/>
              </a:rPr>
              <a:t>Doble presencia</a:t>
            </a:r>
            <a:r>
              <a:rPr b="1" lang="es-ES_tradnl" sz="2000" spc="-1" strike="noStrike">
                <a:solidFill>
                  <a:srgbClr val="ff9900"/>
                </a:solidFill>
                <a:latin typeface="Futura Md BT"/>
              </a:rPr>
              <a:t>  </a:t>
            </a:r>
            <a:br>
              <a:rPr sz="2000"/>
            </a:b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_tradnl" sz="2000" spc="-1" strike="noStrike">
                <a:solidFill>
                  <a:srgbClr val="969696"/>
                </a:solidFill>
                <a:latin typeface="Futura Md BT"/>
              </a:rPr>
              <a:t>Hall</a:t>
            </a: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 199</a:t>
            </a:r>
            <a:r>
              <a:rPr b="0" lang="es-ES_tradnl" sz="2000" spc="-1" strike="noStrike">
                <a:solidFill>
                  <a:srgbClr val="969696"/>
                </a:solidFill>
                <a:latin typeface="Futura Md BT"/>
              </a:rPr>
              <a:t>2</a:t>
            </a:r>
            <a:r>
              <a:rPr b="0" lang="es-ES" sz="2000" spc="-1" strike="noStrike">
                <a:solidFill>
                  <a:srgbClr val="969696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6741" r="0" b="38764"/>
          <a:stretch/>
        </p:blipFill>
        <p:spPr>
          <a:xfrm>
            <a:off x="468360" y="333360"/>
            <a:ext cx="7554960" cy="582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00200" y="1752480"/>
            <a:ext cx="609480" cy="0"/>
          </a:xfrm>
          <a:prstGeom prst="line">
            <a:avLst/>
          </a:prstGeom>
          <a:ln cap="sq" w="104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4880" y="614376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Times New Roman"/>
              </a:rPr>
              <a:t>EL PAIS 22/10/02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nfermedades o transtornos de la salud relacionados con el estrés (1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diovascular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infarto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, 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Euro Heart Network 1998, Kristensen 1996; Kivimäki  200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Respiratori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iperreactividad bronquial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sm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Smyth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Trans. de base immunitaria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rtriti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reumatoide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O’Leary 1990;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eters  1999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astrointestinale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dispepsia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úlcera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 péptica, síndrome del colon irritable, enfermedad de Crhon, colitis ulcerosa)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 (House 1979; Räihä 1998;  Fukudo 1987;  Drossman 1998; Paar 1998; Duffy 1991; Levenstein  2000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ermat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psoriasis, neurodermitis, </a:t>
            </a:r>
            <a:r>
              <a:rPr b="0" lang="es-ES" sz="1800" spc="-1" strike="noStrike" u="sng">
                <a:solidFill>
                  <a:srgbClr val="969696"/>
                </a:solidFill>
                <a:uFillTx/>
                <a:latin typeface="Futura Md BT"/>
              </a:rPr>
              <a:t>alergias</a:t>
            </a: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) (</a:t>
            </a:r>
            <a:r>
              <a:rPr b="0" lang="ca-ES" sz="1800" spc="-1" strike="noStrike">
                <a:solidFill>
                  <a:srgbClr val="969696"/>
                </a:solidFill>
                <a:latin typeface="Futura Md BT"/>
              </a:rPr>
              <a:t>Park 1998; Martínez, 2001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ndocrinológicos 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Lipton 1976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nfermedades o transtornos de la salud relacionados con el estrés (2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Dolor de espalda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y transtornos musculoesqueléticos</a:t>
            </a:r>
            <a:br>
              <a:rPr sz="2400"/>
            </a:b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(Hemingway 1997; Bongers 1993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Salud mental</a:t>
            </a:r>
            <a:r>
              <a:rPr b="0" lang="ca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br>
              <a:rPr sz="2400"/>
            </a:b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(Colligan 1977;</a:t>
            </a: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 Stansfeld 1999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omportamientos sociales y relacionados con la salud</a:t>
            </a:r>
            <a:br>
              <a:rPr sz="2400"/>
            </a:br>
            <a:r>
              <a:rPr b="0" lang="es-ES" sz="1800" spc="-1" strike="noStrike">
                <a:solidFill>
                  <a:srgbClr val="969696"/>
                </a:solidFill>
                <a:latin typeface="Futura Md BT"/>
              </a:rPr>
              <a:t>(hábito de fumar, consumo de drogas, sedentarismo, participación)</a:t>
            </a:r>
            <a:r>
              <a:rPr b="0" lang="es-ES" sz="2800" spc="-1" strike="noStrike">
                <a:solidFill>
                  <a:srgbClr val="969696"/>
                </a:solidFill>
                <a:latin typeface="Futura Md BT"/>
              </a:rPr>
              <a:t> </a:t>
            </a: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Antelman 1977;</a:t>
            </a:r>
            <a:r>
              <a:rPr b="0" sz="1600" spc="-1" strike="noStrike">
                <a:solidFill>
                  <a:srgbClr val="969696"/>
                </a:solidFill>
                <a:latin typeface="Futura Md BT"/>
              </a:rPr>
              <a:t> Green 1990; Mensch 1988; Green 1990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bsentismo laboral per motivos de salud </a:t>
            </a:r>
            <a:br>
              <a:rPr sz="2400"/>
            </a:br>
            <a:r>
              <a:rPr b="0" lang="es-ES" sz="1600" spc="-1" strike="noStrike">
                <a:solidFill>
                  <a:srgbClr val="969696"/>
                </a:solidFill>
                <a:latin typeface="Futura Md BT"/>
              </a:rPr>
              <a:t>(</a:t>
            </a:r>
            <a:r>
              <a:rPr b="0" lang="ca-ES" sz="1600" spc="-1" strike="noStrike">
                <a:solidFill>
                  <a:srgbClr val="969696"/>
                </a:solidFill>
                <a:latin typeface="Futura Md BT"/>
              </a:rPr>
              <a:t>Manning 1989; Marmot 1995)</a:t>
            </a:r>
            <a:endParaRPr b="0" lang="en-US" sz="16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Validez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fiabilidad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conocida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Validez de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Validez de contenid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tegra las dimensiones de los modelos de Karasek-Theorell y Siegrist, y añade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xigencias psi. Emocionales, esconder emociones, sentido, integración, claridad y conflicto de rol, previsibilidad, refuerz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Validez aparente (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face validity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n empresas y entre los profesionales que lo han usado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  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Validez de construct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Correlaciones entre escal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683280" indent="-26280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Reproducción asociaciones conocidas: bibliografia modelos Karasek-Theorell y Siegrist; y datos encuesta psicosocial danesa (CoPsoQ danés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Fiabilidad de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sistencia intern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de Cronbach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 altas 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(de 0,66 a 0,92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“</a:t>
            </a:r>
            <a:r>
              <a:rPr b="0" sz="2000" spc="-1" strike="noStrike">
                <a:solidFill>
                  <a:srgbClr val="333333"/>
                </a:solidFill>
                <a:latin typeface="Futura Md BT"/>
              </a:rPr>
              <a:t>Escalas” de dos ítems: correlaciones inter-ítem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cordancia entre versiones larga y medi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Índices de</a:t>
            </a:r>
            <a:r>
              <a:rPr b="0" i="1" sz="2200" spc="-1" strike="noStrike">
                <a:solidFill>
                  <a:srgbClr val="333333"/>
                </a:solidFill>
                <a:latin typeface="Futura Md BT"/>
              </a:rPr>
              <a:t> Kappa </a:t>
            </a: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altos </a:t>
            </a:r>
            <a:r>
              <a:rPr b="0" sz="1800" spc="-1" strike="noStrike">
                <a:solidFill>
                  <a:srgbClr val="333333"/>
                </a:solidFill>
                <a:latin typeface="Futura Md BT"/>
              </a:rPr>
              <a:t>(de 0,69 a 0,77)</a:t>
            </a:r>
            <a:endParaRPr b="0" lang="en-US" sz="1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7680" y="531360"/>
            <a:ext cx="815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br>
              <a:rPr sz="20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Consistencia y concordancia versione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1960" y="1596960"/>
          <a:ext cx="7459560" cy="47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96960"/>
                    <a:ext cx="7459560" cy="47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II)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étod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ara cualquier tipo de trabaj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razon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técnicas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no hay financiación ni investigadores suficientes 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operatividad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razon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sociales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quidad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V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uestionari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individual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nónim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,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respuesta voluntari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nfidenci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valúa la organización del trabajo a través de las experiencias de los trabajadores y trabajadoras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icencia de uso: confidencialidad y anonimat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ara prevenir hay que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valuar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identifica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edi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xposición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</a:t>
            </a:r>
            <a:r>
              <a:rPr b="0" lang="es-ES" sz="2400" spc="-1" strike="noStrike">
                <a:solidFill>
                  <a:srgbClr val="ff9900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factores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de riesgo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Factor de riesgo: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condición de trabajo</a:t>
            </a:r>
            <a:r>
              <a:rPr b="0" lang="es-ES" sz="2200" spc="-1" strike="noStrike">
                <a:solidFill>
                  <a:srgbClr val="ffcc00"/>
                </a:solidFill>
                <a:latin typeface="Futura Md BT"/>
              </a:rPr>
              <a:t> 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a exposición a la cual</a:t>
            </a:r>
            <a:r>
              <a:rPr b="0" lang="es-ES" sz="2200" spc="-1" strike="noStrike">
                <a:solidFill>
                  <a:srgbClr val="ffcc00"/>
                </a:solidFill>
                <a:latin typeface="Futura Md BT"/>
              </a:rPr>
              <a:t>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aumenta la probabilidad de incidencia de una enfermedad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Priorizar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decidir por dónde se empieza a intervenir</a:t>
            </a:r>
            <a:r>
              <a:rPr b="0" lang="es-ES" sz="2400" spc="-1" strike="noStrike">
                <a:solidFill>
                  <a:srgbClr val="ffcc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Intervenir en origen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odificar las condiciones de trabaj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27920" indent="-28008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Es un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proceso social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(y no sólo técnico): la 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de l@s trabajador@s y sus representantes en cada momento es esencial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0" y="762120"/>
            <a:ext cx="4038480" cy="5635440"/>
          </a:xfrm>
          <a:prstGeom prst="rect">
            <a:avLst/>
          </a:prstGeom>
          <a:solidFill>
            <a:srgbClr val="ffffff"/>
          </a:solidFill>
          <a:ln cap="sq" w="3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UESTIONARIO DE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EVALUACIÓN DE RIESGO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PSICOSOCIALE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ISTAS-2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Times New Roman"/>
              </a:rPr>
              <a:t>Versión castellana del</a:t>
            </a:r>
            <a:r>
              <a:rPr b="0" lang="es-ES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uestionario Psicosocial de Copenhagen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33"/>
                </a:solidFill>
                <a:latin typeface="Times New Roman"/>
              </a:rPr>
              <a:t>CoPsoQ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33"/>
                </a:solidFill>
                <a:latin typeface="Times New Roman"/>
              </a:rPr>
              <a:t>Versión 1, Enero de 210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Empresa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Centro de Trabajo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ES" sz="800" spc="-1" strike="noStrike">
                <a:solidFill>
                  <a:srgbClr val="333333"/>
                </a:solidFill>
                <a:latin typeface="Times New Roman"/>
              </a:rPr>
              <a:t>                   Fecha de respuesta: ___/___/___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El </a:t>
            </a:r>
            <a:r>
              <a:rPr b="1" lang="es-ES" sz="600" spc="-1" strike="noStrike">
                <a:solidFill>
                  <a:srgbClr val="333333"/>
                </a:solidFill>
                <a:latin typeface="Times New Roman"/>
              </a:rPr>
              <a:t>CopPsoQ 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fue</a:t>
            </a:r>
            <a:r>
              <a:rPr b="1" lang="es-ES" sz="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esarrollado en el 2100 por un equipo de investigadores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el </a:t>
            </a:r>
            <a:r>
              <a:rPr b="0" i="1" lang="es-ES" sz="600" spc="-1" strike="noStrike">
                <a:solidFill>
                  <a:srgbClr val="333333"/>
                </a:solidFill>
                <a:latin typeface="Times New Roman"/>
              </a:rPr>
              <a:t>Arbejdsmiljpinstitittet</a:t>
            </a: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 (Instituto Nacional de Salud Laboral) de Dinamarca liderado por el Prof Tage S Kristensen.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Su adaptación al castellano ha sido realizada por un grupo de trabajo constituido por el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Instituto Sindical de Trabajo Ambiente y Salud (ISTAS), y compuesto por: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age S Kristensen, del </a:t>
            </a:r>
            <a:r>
              <a:rPr b="0" i="1" lang="es-ES" sz="600" spc="-1" strike="noStrike">
                <a:solidFill>
                  <a:srgbClr val="333333"/>
                </a:solidFill>
                <a:latin typeface="Times New Roman"/>
              </a:rPr>
              <a:t>Arbejdsmiljpinstitittet,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Salvador Moncada y Clara Llorens, del ISTAS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Emilio Castejón, Clotilde Nogareda y Silvia Nogareda, del Instituto Nacional de Seguridad e Higiene en el Trabajo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Carme Barba y Carme Ladona del Centre de Seguretat i Condicions de Salut en el Treball de Barcelon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Fernando G Benavides y Joan Benach, de la Universitat Pompeu Fabr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eresa Torns, de la Universitat Autònoma de Barcelona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Dulce Villegas y Mª Ángeles Palomares, de la Mutua Fraternidad,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Núria García y María Menéndez, del Gabinete Higia de Comissions Obreres de Catalunya.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Traductores: Lluís Armangué, Carsten Jorgensen y Margit Schaltz.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Times New Roman"/>
              </a:rPr>
              <a:t>La Mutua Fraternidad colaboró, además, financieramente con el proyecto.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333333"/>
                </a:solidFill>
                <a:latin typeface="Arial"/>
              </a:rPr>
              <a:t>ISTAS-21, versión castellana del CoPsoQ © Istas 2102. CoPsoQ original danés © AMI 2100. </a:t>
            </a:r>
            <a:r>
              <a:rPr b="1" lang="es-ES" sz="600" spc="-1" strike="noStrike">
                <a:solidFill>
                  <a:srgbClr val="333333"/>
                </a:solidFill>
                <a:latin typeface="Arial"/>
              </a:rPr>
              <a:t>AUTORIZADO SU USO PREVIO ACUERDO CON ISTAS. PROHIBIDO SU USO COMERCIAL Y CUALQUIER MODIFICACIÓN NO AUTORIZADA 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33138" b="16989"/>
          <a:stretch/>
        </p:blipFill>
        <p:spPr>
          <a:xfrm>
            <a:off x="5334120" y="1066680"/>
            <a:ext cx="533160" cy="311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362320" y="3657600"/>
            <a:ext cx="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3657600"/>
            <a:ext cx="0" cy="38088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4038480"/>
            <a:ext cx="38098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3657600"/>
            <a:ext cx="380988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809880"/>
            <a:ext cx="1600200" cy="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809880"/>
            <a:ext cx="0" cy="228600"/>
          </a:xfrm>
          <a:prstGeom prst="line">
            <a:avLst/>
          </a:prstGeom>
          <a:ln cap="sq"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jemplo de escala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725480"/>
            <a:ext cx="797076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: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Confidencialidad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as respuestas al cuestionario son anónimas: sin nombre o código de identificación.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Se suprimirán aquellas preguntas que permitan indentificar a un/a trabajador/a.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55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Se distribuirá y devolverá en condiciones que grantizan el anonimato y la confidencialidad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a informatización de los cuestionarios y el análisis de datos se hará por personas sujetas al mantenimiento del secreto.</a:t>
            </a:r>
            <a:r>
              <a:rPr b="0" sz="28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]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)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Versiones adaptadas al objetivo preventivo (investigación, evaluación, sensibilización) y tamaño de empres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1523880"/>
            <a:ext cx="8381880" cy="457200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5840" y="1676520"/>
            <a:ext cx="59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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LARGO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vestigación (cuestionario + manual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362320"/>
            <a:ext cx="7924680" cy="350496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3429000"/>
            <a:ext cx="4343400" cy="2057400"/>
          </a:xfrm>
          <a:prstGeom prst="rect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590920"/>
            <a:ext cx="739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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MEDIO</a:t>
            </a:r>
            <a:r>
              <a:rPr b="0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valuación de riesgos para empresas de 25 o más trabajadores/as</a:t>
            </a:r>
            <a:r>
              <a:rPr b="0" lang="es-ES" sz="3000" spc="-1" strike="noStrike">
                <a:solidFill>
                  <a:srgbClr val="000099"/>
                </a:solidFill>
                <a:latin typeface="Futura Md BT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657600"/>
            <a:ext cx="4114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</a:t>
            </a:r>
            <a:r>
              <a:rPr b="1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Futura Md BT"/>
              </a:rPr>
              <a:t>CORTO</a:t>
            </a:r>
            <a:r>
              <a:rPr b="1" lang="es-ES" sz="2000" spc="-1" strike="noStrike">
                <a:solidFill>
                  <a:srgbClr val="000099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equeñas 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icro-empresas y sensibilizació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uestionario autovalorativ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Valores de refere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040" y="5317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3000" spc="-1" strike="noStrike">
                <a:solidFill>
                  <a:srgbClr val="ff0000"/>
                </a:solidFill>
                <a:latin typeface="Futura Md BT"/>
              </a:rPr>
              <a:t>21   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Tres cuestionarios en uno</a:t>
            </a:r>
            <a:r>
              <a:rPr b="1" lang="es-ES" sz="4000" spc="-1" strike="noStrike">
                <a:solidFill>
                  <a:srgbClr val="99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29080" y="3173400"/>
            <a:ext cx="292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anual de us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uestionar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Valores de referenci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plicación informátic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) Licencia de uso: requerimiento de finalidad preventiv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2800"/>
            </a:b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 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Conocer para prevenir: frente a la burocratización, finalidad preventiva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Representantes de la dirección de la empresa y de los trabajadores han de firmar un acuerdo en el que se comprometen a utilizar el método con una finalidad preventiv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os resultados deben ser considerados como oportunidades para negociar y desarrollar alternativas más saludables de organización del trabajo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b) comparación con niveles de referencia poblacionales </a:t>
            </a:r>
            <a:r>
              <a:rPr b="0" lang="es-ES" sz="2200" spc="-1" strike="noStrike">
                <a:solidFill>
                  <a:srgbClr val="ff0000"/>
                </a:solidFill>
                <a:latin typeface="Futura Md BT"/>
              </a:rPr>
              <a:t>=</a:t>
            </a: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 objetivo de exposición asumible a corto plaz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on referentes ¡no valores límite!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Referente poblacional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2003: Muestra representativa de la población ocupada de la CA de Navarra (n=859, en el futuro de todo el Estado), financiada por el Instituto Navarro de Salud Labor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2007: valores de referencia con muestra representativa de la población ocupada española, financiada por el Fondo de Investigación Sanitari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896040" y="222120"/>
            <a:ext cx="7573320" cy="3479760"/>
            <a:chOff x="896040" y="222120"/>
            <a:chExt cx="7573320" cy="3479760"/>
          </a:xfrm>
        </p:grpSpPr>
        <p:sp>
          <p:nvSpPr>
            <p:cNvPr id="155" name=""/>
            <p:cNvSpPr/>
            <p:nvPr/>
          </p:nvSpPr>
          <p:spPr>
            <a:xfrm>
              <a:off x="983880" y="239760"/>
              <a:ext cx="654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untuaciones de todos los factores psicosociales para el conjunto de 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96040" y="460440"/>
              <a:ext cx="465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mpresa y para la población ocupada de refer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9720" y="2221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9720" y="2221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9080" y="222120"/>
              <a:ext cx="753912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58200" y="2221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58200" y="2221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9720" y="235080"/>
              <a:ext cx="93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8200" y="235080"/>
              <a:ext cx="11160" cy="44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67360" y="69228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93400" y="692280"/>
              <a:ext cx="103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untuació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4480" y="91764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12840" y="1136520"/>
              <a:ext cx="78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empres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44120" y="692280"/>
              <a:ext cx="103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Puntuación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43760" y="917640"/>
              <a:ext cx="820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000000"/>
                  </a:solidFill>
                  <a:latin typeface="Arial"/>
                </a:rPr>
                <a:t>referent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9720" y="67932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19080" y="679320"/>
              <a:ext cx="40276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4676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7920" y="679320"/>
              <a:ext cx="653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1168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22840" y="679320"/>
              <a:ext cx="1335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5808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69240" y="679320"/>
              <a:ext cx="148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58200" y="67932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09720" y="692280"/>
              <a:ext cx="93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4676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1168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5808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58200" y="692280"/>
              <a:ext cx="11160" cy="66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79560" y="1374840"/>
              <a:ext cx="13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oble pres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58360" y="1374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41240" y="1374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61440" y="1374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5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9720" y="13572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19080" y="13572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676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7920" y="13572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1168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22840" y="13572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808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69240" y="135720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58200" y="135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9720" y="136836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4676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1168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808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58200" y="136836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9720" y="1604880"/>
              <a:ext cx="314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cuantitativ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58360" y="16048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41240" y="16048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6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61440" y="16048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7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9720" y="15937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19080" y="15937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4676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7920" y="15937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1168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22840" y="15937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5808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69240" y="15937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58200" y="15937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9720" y="16048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4676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168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5808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58200" y="16048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6560" y="1836720"/>
              <a:ext cx="305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sensorial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58360" y="183672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41240" y="18367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87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1440" y="183672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9720" y="18255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19080" y="18255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4676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57920" y="18255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1168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22840" y="18255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5808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69240" y="18255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458200" y="18255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9720" y="183672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4676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1168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08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58200" y="18367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20520" y="2073240"/>
              <a:ext cx="293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cognitiv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58360" y="207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41240" y="207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0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07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9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09720" y="20574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19080" y="20574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4676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57920" y="20574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1168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22840" y="20574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5808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69240" y="205740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458200" y="2057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09720" y="206856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4676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1168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5808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58200" y="206856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08280" y="2305080"/>
              <a:ext cx="3155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xigencias psicológicas emocional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8360" y="23050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41240" y="23050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5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61440" y="23050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09720" y="22939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9080" y="22939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4676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57920" y="22939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1168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22840" y="22939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5808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9240" y="22939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58200" y="2293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09720" y="23050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4676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61168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5808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58200" y="23050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67320" y="2543040"/>
              <a:ext cx="178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conder emocione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58360" y="2543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41240" y="2543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7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61440" y="25430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6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9720" y="25257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19080" y="25257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676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57920" y="25257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1168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2840" y="25257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5808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69240" y="25257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58200" y="25257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9720" y="253692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4676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1168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5808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458200" y="253692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06200" y="27734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fluenc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58360" y="27734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41240" y="277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8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61440" y="27734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44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09720" y="27622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19080" y="27622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4676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57920" y="27622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1168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22840" y="27622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5808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69240" y="27622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8200" y="27622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09720" y="27734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4676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1168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5808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458200" y="27734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4320" y="3005280"/>
              <a:ext cx="30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trol sobre los tiempos de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58360" y="3005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41240" y="3005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1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61440" y="3005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4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09720" y="29941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19080" y="29941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4676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57920" y="29941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1168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22840" y="29941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5808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69240" y="29941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58200" y="29941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9720" y="30052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4676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1168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5808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458200" y="3005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38880" y="3243240"/>
              <a:ext cx="229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ibilidades de desarroll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58360" y="32432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41240" y="324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2,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1440" y="32432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5,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09720" y="323064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19080" y="323064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4676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7920" y="323064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168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22840" y="323064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5808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69240" y="323064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458200" y="32306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9720" y="324324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4676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1168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5808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58200" y="32432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64080" y="3473280"/>
              <a:ext cx="159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tido del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58360" y="347328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41240" y="3473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1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347328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9720" y="3462480"/>
              <a:ext cx="93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19080" y="3462480"/>
              <a:ext cx="402768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4676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57920" y="3462480"/>
              <a:ext cx="6537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1168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909720" y="3462480"/>
            <a:ext cx="7559640" cy="2814480"/>
            <a:chOff x="909720" y="3462480"/>
            <a:chExt cx="7559640" cy="2814480"/>
          </a:xfrm>
        </p:grpSpPr>
        <p:sp>
          <p:nvSpPr>
            <p:cNvPr id="356" name=""/>
            <p:cNvSpPr/>
            <p:nvPr/>
          </p:nvSpPr>
          <p:spPr>
            <a:xfrm>
              <a:off x="5622840" y="3462480"/>
              <a:ext cx="133524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808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9240" y="3462480"/>
              <a:ext cx="14889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58200" y="3462480"/>
              <a:ext cx="111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09720" y="34732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4676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1168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5808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58200" y="34732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40320" y="3711600"/>
              <a:ext cx="2218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gración en la empres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58360" y="37116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41240" y="37116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9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61440" y="37116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720" y="369396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9080" y="369396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676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57920" y="369396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1168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22840" y="369396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5808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69240" y="369396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58200" y="36939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720" y="370512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4676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1168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5808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58200" y="370512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97560" y="3941640"/>
              <a:ext cx="100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segur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58360" y="394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5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141240" y="394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6,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61440" y="394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4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720" y="39304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9080" y="39304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4676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57920" y="39304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1168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22840" y="39304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5808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69240" y="39304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458200" y="3930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720" y="39416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4676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1168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5808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458200" y="39416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94680" y="4179960"/>
              <a:ext cx="1247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laridad de r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58360" y="41799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6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41240" y="41799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72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61440" y="41799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09720" y="41623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19080" y="41623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4676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57920" y="41623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1168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22840" y="41623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5808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69240" y="41623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58200" y="4162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909720" y="41734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676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1168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5808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458200" y="41734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93960" y="4411800"/>
              <a:ext cx="1279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onflicto de r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58360" y="4411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41240" y="4411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8,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61440" y="4411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38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909720" y="4398840"/>
              <a:ext cx="93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9080" y="4398840"/>
              <a:ext cx="40276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676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57920" y="4398840"/>
              <a:ext cx="653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1168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22840" y="4398840"/>
              <a:ext cx="1335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5808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69240" y="4398840"/>
              <a:ext cx="1488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58200" y="43988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09720" y="4411800"/>
              <a:ext cx="93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4676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1168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5808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58200" y="4411800"/>
              <a:ext cx="11160" cy="21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0000" y="464184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revisibi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58360" y="46418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1240" y="4641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46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1440" y="46418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7,6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09720" y="46306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19080" y="46306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4676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57920" y="46306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1168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622840" y="46306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5808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969240" y="46306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58200" y="46306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09720" y="46418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94676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61168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5808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58200" y="46418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34560" y="4879800"/>
              <a:ext cx="219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poyo social en el trabaj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58360" y="48798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41240" y="4879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4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61440" y="48798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6,7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09720" y="486252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9080" y="486252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4676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57920" y="486252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1168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22840" y="486252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5808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69240" y="486252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458200" y="48625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9720" y="487368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4676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1168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808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458200" y="487368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06200" y="5111640"/>
              <a:ext cx="77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fuerz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58360" y="51116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41240" y="511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0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61440" y="511164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2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720" y="509904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19080" y="509904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4676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57920" y="509904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1168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22840" y="509904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5808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969240" y="509904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58200" y="509904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720" y="511164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4676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1168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5808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511164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25200" y="5348160"/>
              <a:ext cx="266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osibilidades de relación socia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58360" y="53481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41240" y="53481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6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61440" y="53481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69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720" y="533088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19080" y="533088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4676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57920" y="533088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1168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22840" y="533088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5808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69240" y="533088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58200" y="53308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09720" y="534204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94676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1168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5808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458200" y="534204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59760" y="5580000"/>
              <a:ext cx="182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entimiento de grup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58360" y="55800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5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141240" y="55800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68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561440" y="55800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5,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09720" y="5567400"/>
              <a:ext cx="93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19080" y="5567400"/>
              <a:ext cx="402768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4676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57920" y="5567400"/>
              <a:ext cx="6537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1168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22840" y="5567400"/>
              <a:ext cx="13352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5808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69240" y="5567400"/>
              <a:ext cx="1488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58200" y="5567400"/>
              <a:ext cx="111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09720" y="5580000"/>
              <a:ext cx="93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4676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61168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5808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58200" y="5580000"/>
              <a:ext cx="11160" cy="21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57600" y="5810400"/>
              <a:ext cx="1748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lidad de liderazg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58360" y="581040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8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141240" y="5810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32,4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561440" y="581040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55,9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09720" y="579924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19080" y="579924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4676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57920" y="579924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1168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22840" y="579924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5808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69240" y="5799240"/>
              <a:ext cx="1488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458200" y="57992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09720" y="5810400"/>
              <a:ext cx="93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4676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1168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5808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458200" y="5810400"/>
              <a:ext cx="1116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018080" y="604836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Esti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58360" y="604836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78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41240" y="60483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4,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61440" y="6048360"/>
              <a:ext cx="374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74,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09720" y="6037200"/>
              <a:ext cx="9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19080" y="6037200"/>
              <a:ext cx="4027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4676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57920" y="6037200"/>
              <a:ext cx="653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1168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22840" y="6037200"/>
              <a:ext cx="1335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58080" y="60372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6969240" y="6037200"/>
            <a:ext cx="1488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58200" y="60372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09720" y="6048360"/>
            <a:ext cx="93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09720" y="626760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09720" y="6267600"/>
            <a:ext cx="93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19080" y="6267600"/>
            <a:ext cx="40276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4676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4676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7920" y="6267600"/>
            <a:ext cx="6537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1168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1168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22840" y="6267600"/>
            <a:ext cx="13352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5808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5808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69240" y="6267600"/>
            <a:ext cx="1488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458200" y="6048360"/>
            <a:ext cx="11160" cy="21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820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458200" y="626760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 rot="16192800">
            <a:off x="-2857320" y="285588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4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R</a:t>
            </a:r>
            <a:r>
              <a:rPr b="0" lang="es-ES" sz="2000" spc="-1" strike="noStrike">
                <a:solidFill>
                  <a:srgbClr val="ff0000"/>
                </a:solidFill>
                <a:latin typeface="Futura Md BT"/>
              </a:rPr>
              <a:t>esultados</a:t>
            </a:r>
            <a:endParaRPr b="1" lang="en-US" sz="2000" spc="-1" strike="noStrike">
              <a:solidFill>
                <a:srgbClr val="ff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Evaluación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aluar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identificar y medir la exposición a factores de riesg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Factor de riesgo (laboral): condición de trabajo la exposición a la cual aumenta la probabilidad de incidencia de una enfermedad o trastorno de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que usar métodos basados en modelos (científicos) que expliquen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Los métodos deben ser válidos y fiabl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) identificación de riesgos al nivel de menor complejidad conceptual posible = dividimos los problemas y es más fácil abordarlos y buscar alternativa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Factores psicosociales que mide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cuantitativ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cognitiv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emocional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de esconder emocion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xigencias sensoriale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fluencia en el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osibilidades de desarroll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ontrol sobre el tiempo de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Significado del trabaj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tegración en la empres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revisibilidad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laridad de rol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onflicto de rol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alidad de liderazg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poyo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Refuerzo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Posibilidad de relacionarse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Sentimiento de grupo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seguridad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Estim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Futura Md B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Doble presenci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Exposición a riesgos psicosociales en la empresa X. Porcentaje de trabajadoras/es en cada nivel de referencia 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457200" y="1820880"/>
          <a:ext cx="72118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0880"/>
                    <a:ext cx="72118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603400" y="957240"/>
            <a:ext cx="295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intermedia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12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333333"/>
                </a:solidFill>
                <a:latin typeface="Verdana"/>
              </a:rPr>
              <a:t>Situación más desfavorable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ac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) la presentación de resultados es adaptada a la empresa y múltiple para que sea más fácil localizar el problem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mpres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Unidades de análisis más pequeñas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Centros de trabaj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Departament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Puestos de trabaj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Tipo de contrat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Turn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xo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(......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esentación de resultados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Apoyo social</a:t>
            </a:r>
            <a:br>
              <a:rPr sz="2800"/>
            </a:br>
            <a:r>
              <a:rPr b="1" sz="1800" spc="-1" strike="noStrike">
                <a:solidFill>
                  <a:srgbClr val="ff0000"/>
                </a:solidFill>
                <a:latin typeface="Futura Md BT"/>
              </a:rPr>
              <a:t>Porcentaje de trabajadoras/es en cada situación de exposición</a:t>
            </a:r>
            <a:r>
              <a:rPr b="1" lang="es-ES" sz="1800" spc="-1" strike="noStrike">
                <a:solidFill>
                  <a:srgbClr val="ff0000"/>
                </a:solidFill>
                <a:latin typeface="Futura Md BT"/>
              </a:rPr>
              <a:t> por departamentos.</a:t>
            </a:r>
            <a:endParaRPr b="1" lang="en-US" sz="1800" spc="-1" strike="noStrike">
              <a:solidFill>
                <a:srgbClr val="ff0000"/>
              </a:solidFill>
              <a:latin typeface="Futura Md BT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609480" y="1371600"/>
          <a:ext cx="8240760" cy="57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824076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57200" y="1981080"/>
          <a:ext cx="721188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81080"/>
                    <a:ext cx="72118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5317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Principales características (VII)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ientado a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articipación</a:t>
            </a:r>
            <a:r>
              <a:rPr b="0" lang="es-ES" sz="36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Licencia de uso: requerimiento de participación (necesidad metodológica, imperativo democrático, exigencia operativa)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Modelo de intervención preventiva basado en la información, consulta y negoci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ción de dirección, representantes de trabajadores/as y técnicos en todo el proceso de intervención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decidir unidades de análisis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decidir forma de distribución y recogida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velar por el anonimato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formar a trabajadores y trabajadoras 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interpretar datos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comunicar resultados evalu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proponer medidas preventivas y priorización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(...)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ff0000"/>
                </a:solidFill>
                <a:latin typeface="Futura Md BT"/>
              </a:rPr>
              <a:t>Licencia de us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Participación de trabajador@s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El cuestionario se pasa a la totalidad de trabajador@s de la unidad que se evalua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333333"/>
                </a:solidFill>
                <a:latin typeface="Futura Md BT"/>
              </a:rPr>
              <a:t>Los trabajador@s deben tener puntual información del estado de la evaluación, discutir los resultados y las medidas previstas propuestas.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VIII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Análisis estandarizado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uso sencill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aplicación informática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531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Factores psicosociales: Exposición y efecto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Características de la organización del trabajo (Factores psicosociales): la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xposi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Organización del trabajo: su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orige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fectos: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stré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nfermedade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y trastornos de la salud, el bienestar y la calidad de vid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36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X)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Método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públic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uso libre y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gratuit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33"/>
                </a:solidFill>
                <a:latin typeface="Futura Md BT"/>
              </a:rPr>
              <a:t>se encuentra en:</a:t>
            </a:r>
            <a:endParaRPr b="0" lang="en-US" sz="22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0"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900" spc="-1" strike="noStrike">
                <a:solidFill>
                  <a:srgbClr val="333333"/>
                </a:solidFill>
                <a:latin typeface="Futura Md BT"/>
              </a:rPr>
              <a:t>www.istas.ccoo.es</a:t>
            </a:r>
            <a:endParaRPr b="0" lang="en-US" sz="59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457200"/>
            <a:ext cx="5562360" cy="6095880"/>
          </a:xfrm>
          <a:prstGeom prst="downArrow">
            <a:avLst>
              <a:gd name="adj1" fmla="val 47944"/>
              <a:gd name="adj2" fmla="val 21918"/>
            </a:avLst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7520" y="690480"/>
          <a:ext cx="86961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690480"/>
                    <a:ext cx="869616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¿Qué es </a:t>
            </a: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?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 un metodología de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aluación e intervención preventiva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los factores de riesgo de naturaleza psicosocial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Es la adaptación a la realidad española del método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CoPsoQ (Cuestionario Psicosocial de Copenhagen)</a:t>
            </a:r>
            <a:r>
              <a:rPr b="0" lang="es-ES" sz="2400" spc="-1" strike="noStrike">
                <a:solidFill>
                  <a:srgbClr val="660033"/>
                </a:solidFill>
                <a:latin typeface="Futura Md BT"/>
              </a:rPr>
              <a:t>,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sarrollado por el Instituto Nacional de Salud Laboral de Dinamarca.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Hay adaptaciones en España, Reino Unido, Bélgica, Países Bajos, Suecia y Brasi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Equipos de trabajo de la adaptación para el estado español del CoPsoQ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rupo internacional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AMI: TS Kristensen, V Borg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STAS: S Moncada, C Llore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Traductores: L Armengué,  K Jorgensen, M Schalt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Grupo español: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STAS: S Moncada y C Llore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INSHT: E Castejón, C Nogareda, S Nogared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CSCST: C Barba, C Ladon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UPF: FG Benavides, J Benach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UAB: T Torn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M Fraternidad: MA Palomares, D Villegas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Departament de Salut Laboral de la CONC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33"/>
                </a:solidFill>
                <a:latin typeface="Futura Md BT"/>
              </a:rPr>
              <a:t>Gabinete de Estudios de Navarra</a:t>
            </a:r>
            <a:endParaRPr b="0" lang="en-US" sz="20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Adaptación CoPsoQ a CoPsoQ 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istas2</a:t>
            </a: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1</a:t>
            </a:r>
            <a:r>
              <a:rPr b="1" sz="28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28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1. Definiciones conceptuales con autores danes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2. Comparaciones España - Dinamarc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3. Discusión conceptualde adaptación con autores danese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4. Traducción danés - castellano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5. Revisión traducción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ff0000"/>
                </a:solidFill>
                <a:latin typeface="Futura Md BT"/>
              </a:rPr>
              <a:t>=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taller experto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6. Retro-traducción castellano - danés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7. Comparación original danés - retrotraducción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8.Versión de prueba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9. Prueba comprensión </a:t>
            </a:r>
            <a:r>
              <a:rPr b="0" sz="2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</a:t>
            </a:r>
            <a:r>
              <a:rPr b="0" sz="2400" spc="-1" strike="noStrike">
                <a:solidFill>
                  <a:srgbClr val="333333"/>
                </a:solidFill>
                <a:latin typeface="Futura Md BT"/>
              </a:rPr>
              <a:t> Versión final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040" y="53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Futura Md BT"/>
              </a:rPr>
              <a:t>CoPsoQ istas</a:t>
            </a: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21 </a:t>
            </a:r>
            <a:br>
              <a:rPr sz="2800"/>
            </a:br>
            <a:r>
              <a:rPr b="1" lang="es-ES" sz="2800" spc="-1" strike="noStrike">
                <a:solidFill>
                  <a:srgbClr val="ff0000"/>
                </a:solidFill>
                <a:latin typeface="Futura Md BT"/>
              </a:rPr>
              <a:t>Principales características (I)</a:t>
            </a:r>
            <a:r>
              <a:rPr b="0" lang="es-ES" sz="3600" spc="-1" strike="noStrike">
                <a:solidFill>
                  <a:srgbClr val="ff0000"/>
                </a:solidFill>
                <a:latin typeface="Futura Md BT"/>
              </a:rPr>
              <a:t>	</a:t>
            </a:r>
            <a:endParaRPr b="1" lang="en-US" sz="3600" spc="-1" strike="noStrike">
              <a:solidFill>
                <a:srgbClr val="ff0000"/>
              </a:solidFill>
              <a:latin typeface="Futura Md B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Identifica y mide factores de riesgo: características de la organización del trabajo para las que hay suficientes </a:t>
            </a: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evidencias científicas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 de que pueden perjudicar la salud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Futura Md BT"/>
              </a:rPr>
              <a:t>Marco conceptual claro y explícito</a:t>
            </a:r>
            <a:r>
              <a:rPr b="0" lang="es-ES" sz="2400" spc="-1" strike="noStrike">
                <a:solidFill>
                  <a:srgbClr val="333333"/>
                </a:solidFill>
                <a:latin typeface="Futura Md BT"/>
              </a:rPr>
              <a:t>: modelos “demanda-control-apoyo social” (Karasek-Johnson) y “esfuerzo - compensaciones” (Siegrist)</a:t>
            </a:r>
            <a:endParaRPr b="0" lang="en-US" sz="2400" spc="-1" strike="noStrike">
              <a:solidFill>
                <a:srgbClr val="333333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8:41:38Z</dcterms:created>
  <dc:creator>CPU</dc:creator>
  <dc:description/>
  <dc:language>en-US</dc:language>
  <cp:lastModifiedBy>Pili</cp:lastModifiedBy>
  <cp:lastPrinted>2003-06-25T10:03:13Z</cp:lastPrinted>
  <dcterms:modified xsi:type="dcterms:W3CDTF">2005-07-21T16:00:16Z</dcterms:modified>
  <cp:revision>134</cp:revision>
  <dc:subject/>
  <dc:title>La importància de l’avaluació de l’estrès en el treball  Consorci Sanitari Parc Taulí, Sabadell 22 de Maig de 2002</dc:title>
</cp:coreProperties>
</file>