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B3D89-8216-4749-B6DB-FB659B0C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464DE-DE08-4860-9FF5-1C46F016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31A29-C7E5-4360-A208-7A45F42B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918C6-58A9-4D0C-BFB2-3E373114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D4914-5A53-4FAF-845E-3583CF64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1EB2B-6787-49A2-9DE6-9CA64F16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41F09-B869-465B-BF8C-E8A2FEA8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BD493-53AA-479E-AE0E-F45A7332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9B618-D301-4969-949C-A4980A59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D8196-9623-456B-86CF-57904A8E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CE434-93C2-45B7-9548-F4082DFE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128AA-22BB-4EBE-97D7-A7EE1A12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5" marL="2057400" indent="-228600">
              <a:spcBef>
                <a:spcPts val="601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6" marL="2057400" indent="-228600">
              <a:spcBef>
                <a:spcPts val="601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451640" y="6129360"/>
            <a:ext cx="138924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9E70-7AFE-49E1-8E61-AD7E62296999}" type="slidenum"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5593" t="0" r="32517" b="40690"/>
          <a:stretch/>
        </p:blipFill>
        <p:spPr>
          <a:xfrm>
            <a:off x="7543800" y="6172200"/>
            <a:ext cx="852480" cy="37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4752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Futura Md BT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Futura Md B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2640" y="3581280"/>
            <a:ext cx="6629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Una nueva herramienta </a:t>
            </a:r>
            <a:br>
              <a:rPr sz="2400"/>
            </a:b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de  evaluación e intervención preventiva del riesgo psicosoci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59280" y="1197000"/>
            <a:ext cx="309528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Futura Md BT"/>
              </a:rPr>
              <a:t>D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imensiones de la organización del trabajo que afectan la salud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Exigencias psicológicas</a:t>
            </a:r>
            <a:br>
              <a:rPr sz="20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Karasek 1979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Influencia y desarrollo en el trabajo</a:t>
            </a:r>
            <a:r>
              <a:rPr b="1" lang="es-ES_tradnl" sz="2400" spc="-1" strike="noStrike">
                <a:solidFill>
                  <a:srgbClr val="ff9900"/>
                </a:solidFill>
                <a:latin typeface="Futura Md BT"/>
              </a:rPr>
              <a:t> </a:t>
            </a:r>
            <a:br>
              <a:rPr sz="24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Karasek 1979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Apoyo social y calidad de liderazgo</a:t>
            </a:r>
            <a:r>
              <a:rPr b="1" lang="es-ES_tradnl" sz="2000" spc="-1" strike="noStrike">
                <a:solidFill>
                  <a:srgbClr val="ff9900"/>
                </a:solidFill>
                <a:latin typeface="Futura Md BT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Johnson 1988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C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mpensaciones </a:t>
            </a: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del trabajo</a:t>
            </a:r>
            <a:r>
              <a:rPr b="1" lang="es-ES_tradnl" sz="2000" spc="-1" strike="noStrike">
                <a:solidFill>
                  <a:srgbClr val="ff9900"/>
                </a:solidFill>
                <a:latin typeface="Futura Md BT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Siegrist 1990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Doble presencia</a:t>
            </a:r>
            <a:r>
              <a:rPr b="1" lang="es-ES_tradnl" sz="2000" spc="-1" strike="noStrike">
                <a:solidFill>
                  <a:srgbClr val="ff9900"/>
                </a:solidFill>
                <a:latin typeface="Futura Md BT"/>
              </a:rPr>
              <a:t>  </a:t>
            </a:r>
            <a:br>
              <a:rPr sz="20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_tradnl" sz="2000" spc="-1" strike="noStrike">
                <a:solidFill>
                  <a:srgbClr val="969696"/>
                </a:solidFill>
                <a:latin typeface="Futura Md BT"/>
              </a:rPr>
              <a:t>Hall</a:t>
            </a: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 199</a:t>
            </a:r>
            <a:r>
              <a:rPr b="0" lang="es-ES_tradnl" sz="2000" spc="-1" strike="noStrike">
                <a:solidFill>
                  <a:srgbClr val="969696"/>
                </a:solidFill>
                <a:latin typeface="Futura Md BT"/>
              </a:rPr>
              <a:t>2</a:t>
            </a: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6741" r="0" b="38764"/>
          <a:stretch/>
        </p:blipFill>
        <p:spPr>
          <a:xfrm>
            <a:off x="468360" y="333360"/>
            <a:ext cx="7554960" cy="582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00200" y="1752480"/>
            <a:ext cx="609480" cy="0"/>
          </a:xfrm>
          <a:prstGeom prst="line">
            <a:avLst/>
          </a:prstGeom>
          <a:ln cap="sq" w="104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4880" y="6143760"/>
            <a:ext cx="21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Times New Roman"/>
              </a:rPr>
              <a:t>EL PAIS 22/10/02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nfermedades o transtornos de la salud relacionados con el estrés (1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ardiovasculare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infarto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, 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Euro Heart Network 1998, Kristensen 1996; Kivimäki  2002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Respiratorio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hiperreactividad bronquial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sma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) (Smyth 1999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Trans. de base immunitaria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rtritis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reumatoide)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 (O’Leary 1990;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Peters  1999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Gastrointestinale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dispepsia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úlcera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péptica, síndrome del colon irritable, enfermedad de Crhon, colitis ulcerosa)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 (House 1979; Räihä 1998;  Fukudo 1987;  Drossman 1998; Paar 1998; Duffy 1991; Levenstein  2000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Dermatológico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psoriasis, neurodermitis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lergias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) (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Park 1998; Martínez, 2001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ndocrinológico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Lipton 1976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nfermedades o transtornos de la salud relacionados con el estrés (2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Dolor de espalda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y transtornos musculoesqueléticos</a:t>
            </a:r>
            <a:br>
              <a:rPr sz="2400"/>
            </a:br>
            <a:r>
              <a:rPr b="0" lang="ca-ES" sz="1600" spc="-1" strike="noStrike">
                <a:solidFill>
                  <a:srgbClr val="969696"/>
                </a:solidFill>
                <a:latin typeface="Futura Md BT"/>
              </a:rPr>
              <a:t>(Hemingway 1997; Bongers 1993)</a:t>
            </a:r>
            <a:endParaRPr b="0" lang="en-US" sz="16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Salud mental</a:t>
            </a: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br>
              <a:rPr sz="2400"/>
            </a:br>
            <a:r>
              <a:rPr b="0" lang="ca-ES" sz="1600" spc="-1" strike="noStrike">
                <a:solidFill>
                  <a:srgbClr val="969696"/>
                </a:solidFill>
                <a:latin typeface="Futura Md BT"/>
              </a:rPr>
              <a:t>(Colligan 1977;</a:t>
            </a:r>
            <a:r>
              <a:rPr b="0" lang="es-ES" sz="1600" spc="-1" strike="noStrike">
                <a:solidFill>
                  <a:srgbClr val="969696"/>
                </a:solidFill>
                <a:latin typeface="Futura Md BT"/>
              </a:rPr>
              <a:t> Stansfeld 1999)</a:t>
            </a:r>
            <a:endParaRPr b="0" lang="en-US" sz="16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omportamientos sociales y relacionados con la salud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hábito de fumar, consumo de drogas, sedentarismo, participación)</a:t>
            </a:r>
            <a:r>
              <a:rPr b="0" lang="es-ES" sz="2800" spc="-1" strike="noStrike">
                <a:solidFill>
                  <a:srgbClr val="969696"/>
                </a:solidFill>
                <a:latin typeface="Futura Md BT"/>
              </a:rPr>
              <a:t> </a:t>
            </a:r>
            <a:r>
              <a:rPr b="0" lang="es-ES" sz="16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ca-ES" sz="1600" spc="-1" strike="noStrike">
                <a:solidFill>
                  <a:srgbClr val="969696"/>
                </a:solidFill>
                <a:latin typeface="Futura Md BT"/>
              </a:rPr>
              <a:t>Antelman 1977;</a:t>
            </a:r>
            <a:r>
              <a:rPr b="0" sz="1600" spc="-1" strike="noStrike">
                <a:solidFill>
                  <a:srgbClr val="969696"/>
                </a:solidFill>
                <a:latin typeface="Futura Md BT"/>
              </a:rPr>
              <a:t> Green 1990; Mensch 1988; Green 1990)</a:t>
            </a:r>
            <a:endParaRPr b="0" lang="en-US" sz="16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Absentismo laboral per motivos de salud </a:t>
            </a:r>
            <a:br>
              <a:rPr sz="2400"/>
            </a:br>
            <a:r>
              <a:rPr b="0" lang="es-ES" sz="16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ca-ES" sz="1600" spc="-1" strike="noStrike">
                <a:solidFill>
                  <a:srgbClr val="969696"/>
                </a:solidFill>
                <a:latin typeface="Futura Md BT"/>
              </a:rPr>
              <a:t>Manning 1989; Marmot 1995)</a:t>
            </a:r>
            <a:endParaRPr b="0" lang="en-US" sz="16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I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Validez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y </a:t>
            </a: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fiabilidad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conocida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Validez de </a:t>
            </a: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Validez de contenid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Integra las dimensiones de los modelos de Karasek-Theorell y Siegrist, y añade: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33"/>
                </a:solidFill>
                <a:latin typeface="Futura Md BT"/>
              </a:rPr>
              <a:t>Exigencias psi. Emocionales, esconder emociones, sentido, integración, claridad y conflicto de rol, previsibilidad, refuerz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Validez aparente (</a:t>
            </a:r>
            <a:r>
              <a:rPr b="0" i="1" sz="2200" spc="-1" strike="noStrike">
                <a:solidFill>
                  <a:srgbClr val="333333"/>
                </a:solidFill>
                <a:latin typeface="Futura Md BT"/>
              </a:rPr>
              <a:t>face validity</a:t>
            </a: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)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33"/>
                </a:solidFill>
                <a:latin typeface="Futura Md BT"/>
              </a:rPr>
              <a:t>En empresas y entre los profesionales que lo han usado</a:t>
            </a:r>
            <a:r>
              <a:rPr b="0" sz="1800" spc="-1" strike="noStrike">
                <a:solidFill>
                  <a:srgbClr val="333333"/>
                </a:solidFill>
                <a:latin typeface="Futura Md BT"/>
              </a:rPr>
              <a:t>  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Validez de construct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Correlaciones entre escal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Reproducción asociaciones conocidas: bibliografia modelos Karasek-Theorell y Siegrist; y datos encuesta psicosocial danesa (CoPsoQ danés)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Fiabilidad de </a:t>
            </a: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Consistencia intern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i="1" sz="2200" spc="-1" strike="noStrike">
                <a:solidFill>
                  <a:srgbClr val="333333"/>
                </a:solidFill>
                <a:latin typeface="Futura Md BT"/>
              </a:rPr>
              <a:t>de Cronbach</a:t>
            </a: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 altas </a:t>
            </a:r>
            <a:r>
              <a:rPr b="0" sz="1800" spc="-1" strike="noStrike">
                <a:solidFill>
                  <a:srgbClr val="333333"/>
                </a:solidFill>
                <a:latin typeface="Futura Md BT"/>
              </a:rPr>
              <a:t>(de 0,66 a 0,92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33"/>
                </a:solidFill>
                <a:latin typeface="Futura Md BT"/>
              </a:rPr>
              <a:t>“</a:t>
            </a:r>
            <a:r>
              <a:rPr b="0" sz="2000" spc="-1" strike="noStrike">
                <a:solidFill>
                  <a:srgbClr val="333333"/>
                </a:solidFill>
                <a:latin typeface="Futura Md BT"/>
              </a:rPr>
              <a:t>Escalas” de dos ítems: correlaciones inter-ítem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Concordancia entre versiones larga y medi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Índices de</a:t>
            </a:r>
            <a:r>
              <a:rPr b="0" i="1" sz="2200" spc="-1" strike="noStrike">
                <a:solidFill>
                  <a:srgbClr val="333333"/>
                </a:solidFill>
                <a:latin typeface="Futura Md BT"/>
              </a:rPr>
              <a:t> Kappa </a:t>
            </a: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altos </a:t>
            </a:r>
            <a:r>
              <a:rPr b="0" sz="1800" spc="-1" strike="noStrike">
                <a:solidFill>
                  <a:srgbClr val="333333"/>
                </a:solidFill>
                <a:latin typeface="Futura Md BT"/>
              </a:rPr>
              <a:t>(de 0,69 a 0,77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7680" y="531360"/>
            <a:ext cx="815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br>
              <a:rPr sz="20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Consistencia y concordancia versione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1960" y="1596960"/>
          <a:ext cx="7459560" cy="47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96960"/>
                    <a:ext cx="7459560" cy="47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II)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Método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para cualquier tipo de trabaj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razones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técnicas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no hay financiación ni investigadores suficientes 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operatividad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razones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sociales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quidad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V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uestionario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individual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,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nónim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, de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respuesta voluntari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onfidenci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Evalúa la organización del trabajo a través de las experiencias de los trabajadores y trabajadoras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Licencia de uso: confidencialidad y anonimat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ara prevenir hay que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valuar: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identificar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medir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xposición</a:t>
            </a:r>
            <a:r>
              <a:rPr b="0" lang="es-ES" sz="2400" spc="-1" strike="noStrike">
                <a:solidFill>
                  <a:srgbClr val="660033"/>
                </a:solidFill>
                <a:latin typeface="Futura Md BT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a</a:t>
            </a:r>
            <a:r>
              <a:rPr b="0" lang="es-ES" sz="2400" spc="-1" strike="noStrike">
                <a:solidFill>
                  <a:srgbClr val="ff9900"/>
                </a:solidFill>
                <a:latin typeface="Futura Md BT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factores</a:t>
            </a:r>
            <a:r>
              <a:rPr b="0" lang="es-ES" sz="2400" spc="-1" strike="noStrike">
                <a:solidFill>
                  <a:srgbClr val="660033"/>
                </a:solidFill>
                <a:latin typeface="Futura Md BT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de riesgo</a:t>
            </a:r>
            <a:r>
              <a:rPr b="0" lang="es-ES" sz="2400" spc="-1" strike="noStrike">
                <a:solidFill>
                  <a:srgbClr val="660033"/>
                </a:solidFill>
                <a:latin typeface="Futura Md BT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27920" indent="-28008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Factor de riesgo: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condición de trabajo</a:t>
            </a:r>
            <a:r>
              <a:rPr b="0" lang="es-ES" sz="2200" spc="-1" strike="noStrike">
                <a:solidFill>
                  <a:srgbClr val="ffcc00"/>
                </a:solidFill>
                <a:latin typeface="Futura Md BT"/>
              </a:rPr>
              <a:t> 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la exposición a la cual</a:t>
            </a:r>
            <a:r>
              <a:rPr b="0" lang="es-ES" sz="2200" spc="-1" strike="noStrike">
                <a:solidFill>
                  <a:srgbClr val="ffcc00"/>
                </a:solidFill>
                <a:latin typeface="Futura Md BT"/>
              </a:rPr>
              <a:t>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aumenta la probabilidad de incidencia de una enfermedad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Priorizar: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decidir por dónde se empieza a intervenir</a:t>
            </a:r>
            <a:r>
              <a:rPr b="0" lang="es-ES" sz="2400" spc="-1" strike="noStrike">
                <a:solidFill>
                  <a:srgbClr val="ffcc00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Intervenir en origen: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modificar las condiciones de trabaj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27920" indent="-28008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Es un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proceso social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(y no sólo técnico): la 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participación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de l@s trabajador@s y sus representantes en cada momento es esencial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0" y="762120"/>
            <a:ext cx="4038480" cy="5635440"/>
          </a:xfrm>
          <a:prstGeom prst="rect">
            <a:avLst/>
          </a:prstGeom>
          <a:solidFill>
            <a:srgbClr val="ffffff"/>
          </a:solidFill>
          <a:ln cap="sq"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CUESTIONARIO DE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EVALUACIÓN DE RIESGO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PSICOSOCIALE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ISTAS-2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Versión castellana del</a:t>
            </a:r>
            <a:r>
              <a:rPr b="0" lang="es-E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Cuestionario Psicosocial de Copenhage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CoPsoQ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33"/>
                </a:solidFill>
                <a:latin typeface="Times New Roman"/>
              </a:rPr>
              <a:t>Versión 1, Enero de 2102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Empresa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Centro de Trabajo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                   Fecha de respuesta: ___/___/___</a:t>
            </a: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El </a:t>
            </a:r>
            <a:r>
              <a:rPr b="1" lang="es-ES" sz="600" spc="-1" strike="noStrike">
                <a:solidFill>
                  <a:srgbClr val="333333"/>
                </a:solidFill>
                <a:latin typeface="Times New Roman"/>
              </a:rPr>
              <a:t>CopPsoQ 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fue</a:t>
            </a:r>
            <a:r>
              <a:rPr b="1" lang="es-ES" sz="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desarrollado en el 2100 por un equipo de investigadores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del </a:t>
            </a:r>
            <a:r>
              <a:rPr b="0" i="1" lang="es-ES" sz="600" spc="-1" strike="noStrike">
                <a:solidFill>
                  <a:srgbClr val="333333"/>
                </a:solidFill>
                <a:latin typeface="Times New Roman"/>
              </a:rPr>
              <a:t>Arbejdsmiljpinstitittet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 (Instituto Nacional de Salud Laboral) de Dinamarca liderado por el Prof Tage S Kristensen.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Su adaptación al castellano ha sido realizada por un grupo de trabajo constituido por el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Instituto Sindical de Trabajo Ambiente y Salud (ISTAS), y compuesto por: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Tage S Kristensen, del </a:t>
            </a:r>
            <a:r>
              <a:rPr b="0" i="1" lang="es-ES" sz="600" spc="-1" strike="noStrike">
                <a:solidFill>
                  <a:srgbClr val="333333"/>
                </a:solidFill>
                <a:latin typeface="Times New Roman"/>
              </a:rPr>
              <a:t>Arbejdsmiljpinstitittet,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Salvador Moncada y Clara Llorens, del ISTAS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Emilio Castejón, Clotilde Nogareda y Silvia Nogareda, del Instituto Nacional de Seguridad e Higiene en el Trabajo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Carme Barba y Carme Ladona del Centre de Seguretat i Condicions de Salut en el Treball de Barcelona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Fernando G Benavides y Joan Benach, de la Universitat Pompeu Fabra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Teresa Torns, de la Universitat Autònoma de Barcelona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Dulce Villegas y Mª Ángeles Palomares, de la Mutua Fraternidad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Núria García y María Menéndez, del Gabinete Higia de Comissions Obreres de Catalunya.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Traductores: Lluís Armangué, Carsten Jorgensen y Margit Schaltz.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La Mutua Fraternidad colaboró, además, financieramente con el proyecto.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Arial"/>
              </a:rPr>
              <a:t>ISTAS-21, versión castellana del CoPsoQ © Istas 2102. CoPsoQ original danés © AMI 2100. </a:t>
            </a:r>
            <a:r>
              <a:rPr b="1" lang="es-ES" sz="600" spc="-1" strike="noStrike">
                <a:solidFill>
                  <a:srgbClr val="333333"/>
                </a:solidFill>
                <a:latin typeface="Arial"/>
              </a:rPr>
              <a:t>AUTORIZADO SU USO PREVIO ACUERDO CON ISTAS. PROHIBIDO SU USO COMERCIAL Y CUALQUIER MODIFICACIÓN NO AUTORIZADA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0" r="33138" b="16989"/>
          <a:stretch/>
        </p:blipFill>
        <p:spPr>
          <a:xfrm>
            <a:off x="5334120" y="1066680"/>
            <a:ext cx="533160" cy="311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362320" y="3657600"/>
            <a:ext cx="0" cy="38088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3657600"/>
            <a:ext cx="0" cy="38088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4038480"/>
            <a:ext cx="380988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3657600"/>
            <a:ext cx="380988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809880"/>
            <a:ext cx="160020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3809880"/>
            <a:ext cx="0" cy="22860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jemplo de escala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725480"/>
            <a:ext cx="797076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Licencia de uso: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Confidencialidad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550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Las respuestas al cuestionario son anónimas: sin nombre o código de identificación.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550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Se suprimirán aquellas preguntas que permitan indentificar a un/a trabajador/a.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550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Se distribuirá y devolverá en condiciones que grantizan el anonimato y la confidencialidad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La informatización de los cuestionarios y el análisis de datos se hará por personas sujetas al mantenimiento del secreto.</a:t>
            </a:r>
            <a:r>
              <a:rPr b="0" sz="28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]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V)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36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Versiones adaptadas al objetivo preventivo (investigación, evaluación, sensibilización) y tamaño de empres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1523880"/>
            <a:ext cx="8381880" cy="4572000"/>
          </a:xfrm>
          <a:prstGeom prst="rect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5840" y="1676520"/>
            <a:ext cx="59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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Futura Md BT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Futura Md BT"/>
              </a:rPr>
              <a:t>LARGO</a:t>
            </a:r>
            <a:r>
              <a:rPr b="1" lang="es-ES" sz="2000" spc="-1" strike="noStrike">
                <a:solidFill>
                  <a:srgbClr val="000099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vestigación (cuestionario + manual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362320"/>
            <a:ext cx="7924680" cy="3504960"/>
          </a:xfrm>
          <a:prstGeom prst="rect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3429000"/>
            <a:ext cx="4343400" cy="2057400"/>
          </a:xfrm>
          <a:prstGeom prst="rect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590920"/>
            <a:ext cx="73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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  </a:t>
            </a:r>
            <a:r>
              <a:rPr b="1" lang="es-ES" sz="2000" spc="-1" strike="noStrike">
                <a:solidFill>
                  <a:srgbClr val="ff0000"/>
                </a:solidFill>
                <a:latin typeface="Futura Md BT"/>
              </a:rPr>
              <a:t>MEDIO</a:t>
            </a:r>
            <a:r>
              <a:rPr b="0" lang="es-ES" sz="2000" spc="-1" strike="noStrike">
                <a:solidFill>
                  <a:srgbClr val="000099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valuación de riesgos para empresas de 25 o más trabajadores/as</a:t>
            </a:r>
            <a:r>
              <a:rPr b="0" lang="es-ES" sz="3000" spc="-1" strike="noStrike">
                <a:solidFill>
                  <a:srgbClr val="000099"/>
                </a:solidFill>
                <a:latin typeface="Futura Md BT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3657600"/>
            <a:ext cx="4114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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Futura Md BT"/>
              </a:rPr>
              <a:t>CORTO</a:t>
            </a:r>
            <a:r>
              <a:rPr b="1" lang="es-ES" sz="2000" spc="-1" strike="noStrike">
                <a:solidFill>
                  <a:srgbClr val="000099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pequeñas 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micro-empresas y sensibilizació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uestionario autovalorativ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Valores de referenci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8040" y="5317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3000" spc="-1" strike="noStrike">
                <a:solidFill>
                  <a:srgbClr val="ff0000"/>
                </a:solidFill>
                <a:latin typeface="Futura Md BT"/>
              </a:rPr>
              <a:t>21   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Tres cuestionarios en uno</a:t>
            </a:r>
            <a:r>
              <a:rPr b="1" lang="es-ES" sz="40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29080" y="3173400"/>
            <a:ext cx="2928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Manual de us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uestionari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Valores de referenci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Aplicación informátic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VI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a) Licencia de uso: requerimiento de finalidad preventiva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2800"/>
            </a:b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Licencia de uso 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Conocer para prevenir: frente a la burocratización, finalidad preventiva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Representantes de la dirección de la empresa y de los trabajadores han de firmar un acuerdo en el que se comprometen a utilizar el método con una finalidad preventiva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Los resultados deben ser considerados como oportunidades para negociar y desarrollar alternativas más saludables de organización del trabajo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b) comparación con niveles de referencia poblacionales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=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objetivo de exposición asumible a corto plaz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Son referentes ¡no valores límite!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Referente poblacional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2003: Muestra representativa de la población ocupada de la CA de Navarra (n=859, en el futuro de todo el Estado), financiada por el Instituto Navarro de Salud Labor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2007: valores de referencia con muestra representativa de la población ocupada española, financiada por el Fondo de Investigación Sanitari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896040" y="222120"/>
            <a:ext cx="7573320" cy="3479760"/>
            <a:chOff x="896040" y="222120"/>
            <a:chExt cx="7573320" cy="3479760"/>
          </a:xfrm>
        </p:grpSpPr>
        <p:sp>
          <p:nvSpPr>
            <p:cNvPr id="155" name=""/>
            <p:cNvSpPr/>
            <p:nvPr/>
          </p:nvSpPr>
          <p:spPr>
            <a:xfrm>
              <a:off x="983880" y="239760"/>
              <a:ext cx="654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untuaciones de todos los factores psicosociales para el conjunto de 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96040" y="460440"/>
              <a:ext cx="465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mpresa y para la población ocupada de referenc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09720" y="222120"/>
              <a:ext cx="93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9720" y="222120"/>
              <a:ext cx="93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9080" y="222120"/>
              <a:ext cx="753912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458200" y="2221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58200" y="2221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09720" y="235080"/>
              <a:ext cx="9360" cy="44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58200" y="235080"/>
              <a:ext cx="11160" cy="44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67360" y="6922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93400" y="692280"/>
              <a:ext cx="103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untuación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94480" y="91764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12840" y="1136520"/>
              <a:ext cx="786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empres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44120" y="692280"/>
              <a:ext cx="103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untuación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43760" y="917640"/>
              <a:ext cx="820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referente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09720" y="679320"/>
              <a:ext cx="93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19080" y="679320"/>
              <a:ext cx="402768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46760" y="6793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7920" y="679320"/>
              <a:ext cx="6537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11680" y="6793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22840" y="679320"/>
              <a:ext cx="13352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58080" y="6793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69240" y="679320"/>
              <a:ext cx="1488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58200" y="6793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09720" y="692280"/>
              <a:ext cx="93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46760" y="692280"/>
              <a:ext cx="111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11680" y="692280"/>
              <a:ext cx="111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58080" y="692280"/>
              <a:ext cx="111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58200" y="692280"/>
              <a:ext cx="111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79560" y="1374840"/>
              <a:ext cx="13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oble presenc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58360" y="13748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5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41240" y="13748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0,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61440" y="13748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5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09720" y="135720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19080" y="135720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6760" y="135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7920" y="135720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11680" y="135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22840" y="135720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58080" y="135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69240" y="135720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458200" y="135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09720" y="1368360"/>
              <a:ext cx="93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46760" y="136836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11680" y="136836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8080" y="136836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458200" y="136836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09720" y="1604880"/>
              <a:ext cx="314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xigencias psicológicas cuantitativ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58360" y="16048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7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41240" y="16048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6,7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61440" y="16048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7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09720" y="15937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19080" y="15937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46760" y="1593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57920" y="15937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11680" y="1593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22840" y="15937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58080" y="1593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69240" y="15937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58200" y="1593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09720" y="16048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46760" y="16048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11680" y="16048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58080" y="16048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58200" y="16048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6560" y="1836720"/>
              <a:ext cx="305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xigencias psicológicas sensoriale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58360" y="1836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41240" y="18367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87,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61440" y="18367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7,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09720" y="182556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19080" y="182556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46760" y="1825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57920" y="182556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11680" y="1825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22840" y="182556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58080" y="1825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69240" y="182556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58200" y="1825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9720" y="183672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46760" y="18367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11680" y="18367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080" y="18367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58200" y="18367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20520" y="2073240"/>
              <a:ext cx="2932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xigencias psicológicas cognitiv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58360" y="2073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41240" y="20732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0,6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61440" y="20732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9,6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09720" y="205740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19080" y="205740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46760" y="2057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57920" y="205740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11680" y="2057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22840" y="205740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58080" y="2057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69240" y="205740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458200" y="2057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09720" y="2068560"/>
              <a:ext cx="93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46760" y="206856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11680" y="206856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58080" y="206856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458200" y="206856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08280" y="2305080"/>
              <a:ext cx="3155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xigencias psicológicas emocionale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8360" y="2305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41240" y="23050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5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61440" y="23050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,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09720" y="22939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19080" y="22939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46760" y="2293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57920" y="22939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11680" y="2293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22840" y="22939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58080" y="2293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69240" y="22939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58200" y="2293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09720" y="23050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46760" y="23050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11680" y="23050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58080" y="23050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58200" y="23050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67320" y="2543040"/>
              <a:ext cx="178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sconder emocione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58360" y="2543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8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41240" y="25430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7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61440" y="25430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09720" y="252576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19080" y="252576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46760" y="2525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57920" y="252576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11680" y="2525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22840" y="252576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58080" y="2525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969240" y="252576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58200" y="2525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09720" y="2536920"/>
              <a:ext cx="93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46760" y="253692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11680" y="253692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58080" y="253692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458200" y="253692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06200" y="27734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fluenc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58360" y="2773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41240" y="27734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8,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61440" y="27734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4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09720" y="27622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19080" y="276228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46760" y="2762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57920" y="276228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11680" y="2762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22840" y="276228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58080" y="2762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69240" y="276228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58200" y="2762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09720" y="277344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46760" y="27734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11680" y="27734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58080" y="27734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458200" y="27734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04320" y="3005280"/>
              <a:ext cx="30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trol sobre los tiempos de trabaj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58360" y="3005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41240" y="30052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1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61440" y="30052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4,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09720" y="29941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19080" y="29941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946760" y="2994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57920" y="29941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11680" y="2994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22840" y="29941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58080" y="2994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69240" y="29941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458200" y="2994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09720" y="30052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46760" y="3005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11680" y="3005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58080" y="3005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458200" y="3005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38880" y="3243240"/>
              <a:ext cx="229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osibilidades de desarroll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58360" y="3243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7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41240" y="32432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2,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61440" y="32432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5,5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09720" y="3230640"/>
              <a:ext cx="93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19080" y="3230640"/>
              <a:ext cx="40276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46760" y="32306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57920" y="3230640"/>
              <a:ext cx="6537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11680" y="32306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22840" y="3230640"/>
              <a:ext cx="1335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58080" y="32306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969240" y="3230640"/>
              <a:ext cx="1488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458200" y="32306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09720" y="3243240"/>
              <a:ext cx="93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46760" y="32432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11680" y="32432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58080" y="32432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58200" y="32432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64080" y="3473280"/>
              <a:ext cx="159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ntido del trabaj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58360" y="3473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41240" y="34732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71,7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61440" y="34732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4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09720" y="3462480"/>
              <a:ext cx="93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19080" y="3462480"/>
              <a:ext cx="40276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946760" y="34624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57920" y="3462480"/>
              <a:ext cx="6537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11680" y="34624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909720" y="3462480"/>
            <a:ext cx="7559640" cy="2814480"/>
            <a:chOff x="909720" y="3462480"/>
            <a:chExt cx="7559640" cy="2814480"/>
          </a:xfrm>
        </p:grpSpPr>
        <p:sp>
          <p:nvSpPr>
            <p:cNvPr id="356" name=""/>
            <p:cNvSpPr/>
            <p:nvPr/>
          </p:nvSpPr>
          <p:spPr>
            <a:xfrm>
              <a:off x="5622840" y="3462480"/>
              <a:ext cx="133524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58080" y="34624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69240" y="3462480"/>
              <a:ext cx="14889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458200" y="34624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09720" y="34732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46760" y="3473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11680" y="3473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58080" y="3473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458200" y="3473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40320" y="3711600"/>
              <a:ext cx="2218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tegración en la empres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58360" y="3711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141240" y="37116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9,6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61440" y="37116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7,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720" y="369396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19080" y="369396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46760" y="36939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57920" y="369396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11680" y="36939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22840" y="369396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58080" y="36939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69240" y="369396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58200" y="36939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720" y="370512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46760" y="37051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11680" y="37051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958080" y="37051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458200" y="37051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97560" y="3941640"/>
              <a:ext cx="1003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segur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58360" y="3941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5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141240" y="39416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6,5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61440" y="39416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4,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720" y="39304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19080" y="393048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46760" y="3930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57920" y="393048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11680" y="3930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22840" y="393048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58080" y="3930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69240" y="393048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458200" y="3930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720" y="394164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46760" y="39416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11680" y="39416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58080" y="39416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458200" y="39416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94680" y="4179960"/>
              <a:ext cx="1247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aridad de r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58360" y="4179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41240" y="41799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72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61440" y="41799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4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09720" y="41623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19080" y="41623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46760" y="4162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57920" y="41623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11680" y="4162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22840" y="41623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58080" y="4162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69240" y="41623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458200" y="4162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09720" y="41734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46760" y="41734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11680" y="41734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58080" y="41734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458200" y="41734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93960" y="4411800"/>
              <a:ext cx="1279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flicto de r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58360" y="4411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8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141240" y="44118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8,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61440" y="44118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8,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09720" y="4398840"/>
              <a:ext cx="93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19080" y="4398840"/>
              <a:ext cx="402768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6760" y="43988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57920" y="4398840"/>
              <a:ext cx="6537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11680" y="43988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622840" y="4398840"/>
              <a:ext cx="13352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58080" y="43988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69240" y="4398840"/>
              <a:ext cx="1488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458200" y="43988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09720" y="4411800"/>
              <a:ext cx="93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46760" y="441180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11680" y="441180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58080" y="441180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58200" y="441180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90000" y="464184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evisibil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58360" y="46418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41240" y="46418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6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61440" y="46418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7,6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909720" y="46306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19080" y="463068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46760" y="46306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57920" y="463068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11680" y="46306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22840" y="463068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58080" y="46306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969240" y="463068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458200" y="46306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09720" y="464184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46760" y="46418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611680" y="46418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58080" y="46418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458200" y="46418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34560" y="4879800"/>
              <a:ext cx="21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poyo social en el trabaj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058360" y="4879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41240" y="48798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4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61440" y="48798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6,7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09720" y="48625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9080" y="48625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46760" y="4862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57920" y="48625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11680" y="4862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22840" y="48625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58080" y="4862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69240" y="48625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458200" y="4862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09720" y="48736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46760" y="48736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11680" y="48736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958080" y="48736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458200" y="48736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06200" y="5111640"/>
              <a:ext cx="77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fuerz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58360" y="5111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41240" y="51116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0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61440" y="51116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2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720" y="5099040"/>
              <a:ext cx="93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19080" y="5099040"/>
              <a:ext cx="40276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946760" y="50990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57920" y="5099040"/>
              <a:ext cx="6537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611680" y="50990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622840" y="5099040"/>
              <a:ext cx="1335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958080" y="50990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969240" y="5099040"/>
              <a:ext cx="1488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58200" y="50990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720" y="5111640"/>
              <a:ext cx="93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46760" y="51116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11680" y="51116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58080" y="51116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58200" y="51116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25200" y="5348160"/>
              <a:ext cx="266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osibilidades de relación socia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58360" y="5348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141240" y="53481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66,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61440" y="53481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9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720" y="53308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19080" y="533088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46760" y="5330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57920" y="533088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11680" y="5330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22840" y="533088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58080" y="5330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69240" y="533088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458200" y="5330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09720" y="534204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946760" y="53420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11680" y="53420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58080" y="53420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458200" y="53420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59760" y="5580000"/>
              <a:ext cx="182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ntimiento de grup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58360" y="55800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5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41240" y="55800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68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561440" y="55800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5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09720" y="5567400"/>
              <a:ext cx="93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19080" y="5567400"/>
              <a:ext cx="40276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946760" y="556740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957920" y="5567400"/>
              <a:ext cx="6537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11680" y="556740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622840" y="5567400"/>
              <a:ext cx="1335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58080" y="556740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69240" y="5567400"/>
              <a:ext cx="1488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458200" y="556740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09720" y="5580000"/>
              <a:ext cx="93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46760" y="558000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611680" y="558000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58080" y="558000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458200" y="558000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57600" y="5810400"/>
              <a:ext cx="174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idad de liderazg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58360" y="58104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8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41240" y="5810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2,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561440" y="5810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5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09720" y="579924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19080" y="579924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46760" y="57992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957920" y="579924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611680" y="57992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22840" y="579924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58080" y="57992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69240" y="579924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458200" y="57992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09720" y="581040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946760" y="581040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611680" y="581040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58080" y="581040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458200" y="581040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018080" y="604836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stim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58360" y="60483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7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141240" y="60483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4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61440" y="60483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4,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09720" y="603720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19080" y="603720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46760" y="603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57920" y="603720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11680" y="603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22840" y="603720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58080" y="603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6969240" y="6037200"/>
            <a:ext cx="1488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458200" y="603720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09720" y="6048360"/>
            <a:ext cx="93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909720" y="6267600"/>
            <a:ext cx="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09720" y="6267600"/>
            <a:ext cx="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19080" y="6267600"/>
            <a:ext cx="40276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946760" y="6048360"/>
            <a:ext cx="111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4676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7920" y="6267600"/>
            <a:ext cx="6537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611680" y="6048360"/>
            <a:ext cx="111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1168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22840" y="6267600"/>
            <a:ext cx="13352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958080" y="6048360"/>
            <a:ext cx="111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5808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969240" y="6267600"/>
            <a:ext cx="1488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458200" y="6048360"/>
            <a:ext cx="111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45820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45820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 rot="16192800">
            <a:off x="-2857320" y="285588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4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R</a:t>
            </a:r>
            <a:r>
              <a:rPr b="0" lang="es-ES" sz="2000" spc="-1" strike="noStrike">
                <a:solidFill>
                  <a:srgbClr val="ff0000"/>
                </a:solidFill>
                <a:latin typeface="Futura Md BT"/>
              </a:rPr>
              <a:t>esultados</a:t>
            </a:r>
            <a:endParaRPr b="1" lang="en-US" sz="2000" spc="-1" strike="noStrike">
              <a:solidFill>
                <a:srgbClr val="ff000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Evaluación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valuar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identificar y medir la exposición a factores de riesg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Factor de riesgo (laboral): condición de trabajo la exposición a la cual aumenta la probabilidad de incidencia de una enfermedad o trastorno de la salud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Hay que usar métodos basados en modelos (científicos) que expliquen salud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Los métodos deben ser válidos y fiabl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c) identificación de riesgos al nivel de menor complejidad conceptual posible = dividimos los problemas y es más fácil abordarlos y buscar alternativ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Factores psicosociales que mide</a:t>
            </a:r>
            <a:r>
              <a:rPr b="1" lang="es-ES" sz="18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ff0000"/>
                </a:solidFill>
                <a:latin typeface="Futura Md BT"/>
              </a:rPr>
              <a:t> </a:t>
            </a: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cuantitativa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cognitiva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emocionale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de esconder emocione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sensoriale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fluencia en el trabaj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Posibilidades de desarroll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ontrol sobre el tiempo de trabaj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Significado del trabaj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tegración en la empres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00240" y="16002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Previsibilidad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laridad de rol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onflicto de rol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alidad de liderazg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Apoyo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Refuerzo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Posibilidad de relacionarse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Sentimiento de grup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seguridad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stim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Doble presenci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Futura Md BT"/>
              </a:rPr>
              <a:t>Exposición a riesgos psicosociales en la empresa X. Porcentaje de trabajadoras/es en cada nivel de referencia </a:t>
            </a:r>
            <a:endParaRPr b="1" lang="en-US" sz="1800" spc="-1" strike="noStrike">
              <a:solidFill>
                <a:srgbClr val="ff0000"/>
              </a:solidFill>
              <a:latin typeface="Futura Md BT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457200" y="1820880"/>
          <a:ext cx="721188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0880"/>
                    <a:ext cx="721188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5603400" y="957240"/>
            <a:ext cx="295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más favorab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intermedi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más desfavorab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) la presentación de resultados es adaptada a la empresa y múltiple para que sea más fácil localizar el problema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mpres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Unidades de análisis más pequeñas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Centros de trabaj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epartamento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Puestos de trabaj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Tipo de contrat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Turn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Sex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(......)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esentación de resultado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Apoyo social</a:t>
            </a:r>
            <a:br>
              <a:rPr sz="2800"/>
            </a:br>
            <a:r>
              <a:rPr b="1" sz="1800" spc="-1" strike="noStrike">
                <a:solidFill>
                  <a:srgbClr val="ff0000"/>
                </a:solidFill>
                <a:latin typeface="Futura Md BT"/>
              </a:rPr>
              <a:t>Porcentaje de trabajadoras/es en cada situación de exposición</a:t>
            </a:r>
            <a:r>
              <a:rPr b="1" lang="es-ES" sz="1800" spc="-1" strike="noStrike">
                <a:solidFill>
                  <a:srgbClr val="ff0000"/>
                </a:solidFill>
                <a:latin typeface="Futura Md BT"/>
              </a:rPr>
              <a:t> por departamentos.</a:t>
            </a:r>
            <a:endParaRPr b="1" lang="en-US" sz="1800" spc="-1" strike="noStrike">
              <a:solidFill>
                <a:srgbClr val="ff0000"/>
              </a:solidFill>
              <a:latin typeface="Futura Md BT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609480" y="1371600"/>
          <a:ext cx="8240760" cy="575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824076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457200" y="1981080"/>
          <a:ext cx="7211880" cy="365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81080"/>
                    <a:ext cx="72118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53172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Principales características (VII)</a:t>
            </a:r>
            <a:endParaRPr b="1" lang="en-US" sz="36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participación</a:t>
            </a:r>
            <a:r>
              <a:rPr b="0" lang="es-ES" sz="36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Licencia de uso: requerimiento de participación (necesidad metodológica, imperativo democrático, exigencia operativa)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Modelo de intervención preventiva basado en la información, consulta y negociación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Licencia de uso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Participación de dirección, representantes de trabajadores/as y técnicos en todo el proceso de intervención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decidir unidades de análisis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decidir forma de distribución y recogida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velar por el anonimato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informar a trabajadores y trabajadoras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interpretar dato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comunicar resultados evaluación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proponer medidas preventivas y priorización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(...)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Licencia de uso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Participación de trabajador@s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El cuestionario se pasa a la totalidad de trabajador@s de la unidad que se evalua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Los trabajador@s deben tener puntual información del estado de la evaluación, discutir los resultados y las medidas previstas propuestas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VIII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Análisis estandarizado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uso sencill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aplicación informática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7680" y="5313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Factores psicosociales: Exposición y efecto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aracterísticas de la organización del trabajo (Factores psicosociales):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xposición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ganización del trabajo: su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origen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fectos: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stré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nfermedade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y trastornos de la salud, el bienestar y la calidad de vida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X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Método de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públic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de uso libre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gratuit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se encuentra en: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0"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900" spc="-1" strike="noStrike">
                <a:solidFill>
                  <a:srgbClr val="333333"/>
                </a:solidFill>
                <a:latin typeface="Futura Md BT"/>
              </a:rPr>
              <a:t>www.istas.ccoo.es</a:t>
            </a:r>
            <a:endParaRPr b="0" lang="en-US" sz="59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76520" y="457200"/>
            <a:ext cx="5562360" cy="6095880"/>
          </a:xfrm>
          <a:prstGeom prst="downArrow">
            <a:avLst>
              <a:gd name="adj1" fmla="val 47944"/>
              <a:gd name="adj2" fmla="val 21918"/>
            </a:avLst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17520" y="690480"/>
          <a:ext cx="86961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690480"/>
                    <a:ext cx="869616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¿Qué es </a:t>
            </a: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?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s un metodología de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valuación e interven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de los factores de riesgo de naturaleza psicosocial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s la adaptación a la realidad española del método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oPsoQ (Cuestionario Psicosocial de Copenhagen)</a:t>
            </a:r>
            <a:r>
              <a:rPr b="0" lang="es-ES" sz="2400" spc="-1" strike="noStrike">
                <a:solidFill>
                  <a:srgbClr val="660033"/>
                </a:solidFill>
                <a:latin typeface="Futura Md BT"/>
              </a:rPr>
              <a:t>,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desarrollado por el Instituto Nacional de Salud Laboral de Dinamarca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Hay adaptaciones en España, Reino Unido, Bélgica, Países Bajos, Suecia y Brasi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quipos de trabajo de la adaptación para el estado español del CoPsoQ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Grupo internacional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AMI: TS Kristensen, V Borg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STAS: S Moncada, C Lloren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Traductores: L Armengué,  K Jorgensen, M Schalt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Grupo español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STAS: S Moncada y C Lloren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SHT: E Castejón, C Nogareda, S Nogared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SCST: C Barba, C Ladon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UPF: FG Benavides, J Benach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UAB: T Torn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M Fraternidad: MA Palomares, D Villega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Departament de Salut Laboral de la CONC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Gabinete de Estudios de Navarr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Adaptación CoPsoQ a CoPsoQ 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istas2</a:t>
            </a: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1</a:t>
            </a: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1. Definiciones conceptuales con autores danes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2. Comparaciones España - Dinamarc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3. Discusión conceptualde adaptación con autores danes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4. Traducción danés - castellan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5. Revisión traducción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=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taller experto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6. Retro-traducción castellano - dané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7. Comparación original danés - retrotraducción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8.Versión de prueb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9. Prueba comprensión </a:t>
            </a:r>
            <a:r>
              <a:rPr b="0" sz="24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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Versión fin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)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36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Identifica y mide factores de riesgo: características de la organización del trabajo para las que hay suficientes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videncias científica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de que pueden perjudicar la salud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Marco conceptual claro y explícit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modelos “demanda-control-apoyo social” (Karasek-Johnson) y “esfuerzo - compensaciones” (Siegrist)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08:41:38Z</dcterms:created>
  <dc:creator>CPU</dc:creator>
  <dc:description/>
  <dc:language>en-US</dc:language>
  <cp:lastModifiedBy>Pili</cp:lastModifiedBy>
  <cp:lastPrinted>2003-06-25T10:03:13Z</cp:lastPrinted>
  <dcterms:modified xsi:type="dcterms:W3CDTF">2005-07-21T16:00:16Z</dcterms:modified>
  <cp:revision>134</cp:revision>
  <dc:subject/>
  <dc:title>La importància de l’avaluació de l’estrès en el treball  Consorci Sanitari Parc Taulí, Sabadell 22 de Maig de 2002</dc:title>
</cp:coreProperties>
</file>