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6002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01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41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284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6002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41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284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EA935-160E-43AE-8563-C5D5F78A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760E1-D254-474A-B3F8-2B7BBAF8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C111C-E805-4790-9311-7127BD25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AD069-CA42-41FA-9243-3647E95E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22C6B-A30F-4941-BDD4-5D0F7526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ACFD9-7EE9-4751-A616-A23B6A2E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88EE5-A073-4798-B721-330CF88C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01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FD722-4678-4468-A76D-C1417703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F106A-47F7-4E81-8755-5E0593FF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002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C469E-040E-4057-9DC5-110445C7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01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1F4C8-E1CE-45B3-BDD9-63014CC3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641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84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002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641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84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853D6-EF0B-49F4-A25F-0CC62752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01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5" marL="2057400" indent="-228600">
              <a:spcBef>
                <a:spcPts val="601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6" marL="2057400" indent="-228600">
              <a:spcBef>
                <a:spcPts val="601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451640" y="6129360"/>
            <a:ext cx="138924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037B-BB35-409E-8ED3-96163D799E7F}" type="slidenum"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5593" t="0" r="32517" b="40690"/>
          <a:stretch/>
        </p:blipFill>
        <p:spPr>
          <a:xfrm>
            <a:off x="7543800" y="6172200"/>
            <a:ext cx="852480" cy="37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4752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Futura Md BT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Futura Md B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2640" y="3581280"/>
            <a:ext cx="6629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Evaluación de riesgos psicosocial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309528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Futura Md BT"/>
              </a:rPr>
              <a:t>Resultados en empresa XXX.  Porcentaje de trabajadoras/es en cada nivel</a:t>
            </a:r>
            <a:endParaRPr b="1" lang="en-US" sz="1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01" name=""/>
          <p:cNvSpPr/>
          <p:nvPr/>
        </p:nvSpPr>
        <p:spPr>
          <a:xfrm>
            <a:off x="5679720" y="762120"/>
            <a:ext cx="295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más favorab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intermedi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más desfavorab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82280" y="1828800"/>
            <a:ext cx="7602480" cy="4811760"/>
            <a:chOff x="782280" y="1828800"/>
            <a:chExt cx="7602480" cy="4811760"/>
          </a:xfrm>
        </p:grpSpPr>
        <p:sp>
          <p:nvSpPr>
            <p:cNvPr id="103" name=""/>
            <p:cNvSpPr/>
            <p:nvPr/>
          </p:nvSpPr>
          <p:spPr>
            <a:xfrm>
              <a:off x="1270080" y="1870920"/>
              <a:ext cx="7113600" cy="346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70080" y="4179600"/>
              <a:ext cx="7113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70080" y="3025800"/>
              <a:ext cx="7113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70080" y="1870920"/>
              <a:ext cx="7113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70080" y="1870920"/>
              <a:ext cx="7113600" cy="346248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71960" y="2945160"/>
              <a:ext cx="135720" cy="23878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11440" y="3151440"/>
              <a:ext cx="135720" cy="21816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9480" y="2775960"/>
              <a:ext cx="134640" cy="25570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87880" y="4692240"/>
              <a:ext cx="135720" cy="6408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26280" y="3492360"/>
              <a:ext cx="135720" cy="184104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65760" y="2972880"/>
              <a:ext cx="135720" cy="23601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03800" y="2422080"/>
              <a:ext cx="137160" cy="29113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43280" y="2242080"/>
              <a:ext cx="134640" cy="30909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1680" y="2665080"/>
              <a:ext cx="135720" cy="26679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0080" y="4280040"/>
              <a:ext cx="135720" cy="10530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59560" y="3282120"/>
              <a:ext cx="135720" cy="20509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97600" y="3219120"/>
              <a:ext cx="135720" cy="21142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37080" y="4106880"/>
              <a:ext cx="135720" cy="12261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75480" y="3715920"/>
              <a:ext cx="134640" cy="16174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13880" y="3736800"/>
              <a:ext cx="135720" cy="159624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51920" y="3663000"/>
              <a:ext cx="135720" cy="16704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91400" y="4033080"/>
              <a:ext cx="135720" cy="13003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9800" y="4429440"/>
              <a:ext cx="135720" cy="9036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69280" y="4142520"/>
              <a:ext cx="134640" cy="11905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06240" y="2785320"/>
              <a:ext cx="137520" cy="25480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45720" y="3036600"/>
              <a:ext cx="135720" cy="22968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1960" y="2154960"/>
              <a:ext cx="135720" cy="7902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11440" y="2256480"/>
              <a:ext cx="135720" cy="8946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49480" y="2577960"/>
              <a:ext cx="134640" cy="1980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87880" y="3661560"/>
              <a:ext cx="135720" cy="10306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26280" y="2547360"/>
              <a:ext cx="135720" cy="9446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65760" y="2346480"/>
              <a:ext cx="135720" cy="6260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03800" y="2016360"/>
              <a:ext cx="137160" cy="4057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43280" y="2026800"/>
              <a:ext cx="134640" cy="2152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81680" y="2120400"/>
              <a:ext cx="135720" cy="5443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20080" y="3481920"/>
              <a:ext cx="135720" cy="7981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59560" y="2543400"/>
              <a:ext cx="135720" cy="7387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97600" y="2216880"/>
              <a:ext cx="135720" cy="10018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37080" y="3261240"/>
              <a:ext cx="135720" cy="8456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75480" y="3201480"/>
              <a:ext cx="134640" cy="5140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13880" y="2575080"/>
              <a:ext cx="135720" cy="11613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1920" y="2800080"/>
              <a:ext cx="135720" cy="8625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91400" y="2596320"/>
              <a:ext cx="135720" cy="14364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29800" y="2598840"/>
              <a:ext cx="135720" cy="18306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69280" y="3360240"/>
              <a:ext cx="134640" cy="7822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06240" y="2308320"/>
              <a:ext cx="137520" cy="4770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45720" y="2336040"/>
              <a:ext cx="135720" cy="7002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71960" y="1868040"/>
              <a:ext cx="135720" cy="2865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11440" y="1868040"/>
              <a:ext cx="135720" cy="3880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49480" y="1868040"/>
              <a:ext cx="134640" cy="7095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87880" y="1868040"/>
              <a:ext cx="135720" cy="17931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26280" y="1868040"/>
              <a:ext cx="135720" cy="6789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65760" y="1868040"/>
              <a:ext cx="135720" cy="4780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3800" y="1868040"/>
              <a:ext cx="137160" cy="1479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43280" y="1868040"/>
              <a:ext cx="134640" cy="15840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81680" y="1868040"/>
              <a:ext cx="135720" cy="25200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20080" y="1868040"/>
              <a:ext cx="135720" cy="161352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59560" y="1868040"/>
              <a:ext cx="135720" cy="67500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97600" y="1868040"/>
              <a:ext cx="135720" cy="3488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37080" y="1868040"/>
              <a:ext cx="135720" cy="13928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75480" y="1868040"/>
              <a:ext cx="134640" cy="13330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13880" y="1868040"/>
              <a:ext cx="135720" cy="7066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51920" y="1868040"/>
              <a:ext cx="135720" cy="9316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91400" y="1868040"/>
              <a:ext cx="135720" cy="7282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29800" y="1868040"/>
              <a:ext cx="135720" cy="7304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69280" y="1868040"/>
              <a:ext cx="134640" cy="14918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06240" y="1868040"/>
              <a:ext cx="137520" cy="43992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45720" y="1868040"/>
              <a:ext cx="135720" cy="4676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70080" y="1870920"/>
              <a:ext cx="1080" cy="346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40920" y="533340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40920" y="417960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40920" y="3025800"/>
              <a:ext cx="28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40920" y="1870920"/>
              <a:ext cx="28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70080" y="5333400"/>
              <a:ext cx="7113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27008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60956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9476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28600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62548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96388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30372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6414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9798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3182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65804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99572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3355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6739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0120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35184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68988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0293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3677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77061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04420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838368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23400" y="528984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00%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9040" y="413712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,30%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69040" y="298224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,60%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9040" y="182880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9,90%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8900000">
              <a:off x="766080" y="5623920"/>
              <a:ext cx="832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oble presencia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8900000">
              <a:off x="601560" y="5763600"/>
              <a:ext cx="1566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xigencias psic. cuantitativas 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8900000">
              <a:off x="987120" y="5758560"/>
              <a:ext cx="1476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xigencias psic. sensoriales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900000">
              <a:off x="1378080" y="5739840"/>
              <a:ext cx="1405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xigencias psic. cognitivas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900000">
              <a:off x="1620000" y="5773320"/>
              <a:ext cx="1538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xigencias psic. emocionales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8900000">
              <a:off x="2278440" y="5671080"/>
              <a:ext cx="1107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sconder emociones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8900000">
              <a:off x="3048120" y="5527080"/>
              <a:ext cx="52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fluencia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8900000">
              <a:off x="2378880" y="5857920"/>
              <a:ext cx="1881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trol sobre los tiempos de trabaj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8900000">
              <a:off x="3069360" y="5739840"/>
              <a:ext cx="1410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sibilidades de desarroll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900000">
              <a:off x="3718080" y="5637960"/>
              <a:ext cx="992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tido del trabaj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8900000">
              <a:off x="3780360" y="5732640"/>
              <a:ext cx="1363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egración en la empresa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8900000">
              <a:off x="4657680" y="5554800"/>
              <a:ext cx="63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seguridad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8900000">
              <a:off x="4888440" y="5593320"/>
              <a:ext cx="78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aridad de rol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8900000">
              <a:off x="5214960" y="5595840"/>
              <a:ext cx="80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flicto de rol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900000">
              <a:off x="5620680" y="5571720"/>
              <a:ext cx="71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evisibilidad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8900000">
              <a:off x="5481000" y="5730840"/>
              <a:ext cx="1352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poyo social en el trabaj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8900000">
              <a:off x="6457680" y="553392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fuerzo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8900000">
              <a:off x="5948280" y="5799600"/>
              <a:ext cx="1635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sibilidades de relación social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8900000">
              <a:off x="6666840" y="5673600"/>
              <a:ext cx="1125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timiento de grup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8900000">
              <a:off x="7037280" y="5661720"/>
              <a:ext cx="1082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idad de liderazg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8900000">
              <a:off x="7895520" y="5493960"/>
              <a:ext cx="38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stima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Apoyo social</a:t>
            </a:r>
            <a:br>
              <a:rPr sz="2800"/>
            </a:br>
            <a:r>
              <a:rPr b="1" sz="1800" spc="-1" strike="noStrike">
                <a:solidFill>
                  <a:srgbClr val="ff0000"/>
                </a:solidFill>
                <a:latin typeface="Futura Md BT"/>
              </a:rPr>
              <a:t>Porcentaje de trabajadoras/es en cada situación de exposición</a:t>
            </a:r>
            <a:r>
              <a:rPr b="1" lang="es-ES" sz="1800" spc="-1" strike="noStrike">
                <a:solidFill>
                  <a:srgbClr val="ff0000"/>
                </a:solidFill>
                <a:latin typeface="Futura Md BT"/>
              </a:rPr>
              <a:t> por departamentos.</a:t>
            </a:r>
            <a:endParaRPr b="1" lang="en-US" sz="1800" spc="-1" strike="noStrike">
              <a:solidFill>
                <a:srgbClr val="ff0000"/>
              </a:solidFill>
              <a:latin typeface="Futura Md BT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09480" y="1371600"/>
          <a:ext cx="8240760" cy="575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24076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57200" y="1981080"/>
          <a:ext cx="7211880" cy="36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81080"/>
                    <a:ext cx="72118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Conocer para prevenir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 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36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Para prevenir: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Futura Md BT"/>
              </a:rPr>
              <a:t>La dirección y l@s delegad@s </a:t>
            </a: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han acordado</a:t>
            </a:r>
            <a:r>
              <a:rPr b="0" sz="2800" spc="-1" strike="noStrike">
                <a:solidFill>
                  <a:srgbClr val="333333"/>
                </a:solidFill>
                <a:latin typeface="Futura Md BT"/>
              </a:rPr>
              <a:t> que los resultados son oportunidades para negociar y </a:t>
            </a: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desarrollar alternativas más saludables de organización del trabajo.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Futura Md BT"/>
              </a:rPr>
              <a:t>Se trata de introducir cambios en las condiciones de trabajo favorables a la salud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8040" y="531720"/>
            <a:ext cx="8610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30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es-ES" sz="32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oces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uerd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Comité de Seguridad y Salud                </a:t>
            </a:r>
            <a:r>
              <a:rPr b="0" lang="es-ES" sz="2400" spc="-1" strike="noStrike">
                <a:solidFill>
                  <a:srgbClr val="ff9900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9480" indent="-33948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onstitución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grupo de trabaj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QUIENxxxx.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Funciones</a:t>
            </a: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ecidir unidades de análisi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Garantizar anonimato y confidencialidad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Comunicación al conjunto de la plantilla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istribución y recogida de cuestionario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Análisis de resultados y redacción informe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iscusión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resultados evaluación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Propuestas de mejora: medidas preventiv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iscusión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medidas preventiv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Implementación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de medidas preventiv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33" name=""/>
          <p:cNvSpPr/>
          <p:nvPr/>
        </p:nvSpPr>
        <p:spPr>
          <a:xfrm>
            <a:off x="7543800" y="2590920"/>
            <a:ext cx="1295280" cy="761760"/>
          </a:xfrm>
          <a:prstGeom prst="wedgeRoundRectCallout">
            <a:avLst>
              <a:gd name="adj1" fmla="val -112379"/>
              <a:gd name="adj2" fmla="val 52916"/>
              <a:gd name="adj3" fmla="val 16667"/>
            </a:avLst>
          </a:prstGeom>
          <a:solidFill>
            <a:srgbClr val="dddddd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Aquí 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estamos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53172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articipación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Es </a:t>
            </a: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imprescindible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: Quien mejor conoce su trabajo es sin duda quien lo realiza y no hay aparato que mida los factores de riesgo psicosocial: </a:t>
            </a: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CONTESTA EL CUESTIONARI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Tendrás puntual información del estado de la evaluación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Tendrás los resultados y la oportunidad de discutirlo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Participarás en la selección y puesta en marcha de medidas preventivas.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Futura Md BT"/>
              </a:rPr>
              <a:t>Por una organización del trabajo más saludable</a:t>
            </a:r>
            <a:endParaRPr b="1" lang="en-US" sz="40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969696"/>
                </a:solidFill>
                <a:latin typeface="Futura Md BT"/>
              </a:rPr>
              <a:t>PARTICIPA</a:t>
            </a:r>
            <a:endParaRPr b="0" lang="en-US" sz="96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Riesgos psicosociales: características de la organización del trabajo nocivas para la salud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xceso de exigencias psicológica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Falta de influencia y de desarroll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Falta de apoyo y de calidad de liderazg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scasas compensacion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strés: mecanismos de acción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Fisiológico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problemas de estómago, dolor en el pecho, tensión en los músculos, dolor de cabeza, sudar más, marearse, faltar el aire...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mocionale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sentimientos de ansiedad, depresión, apatía...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ognitivo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no poder concentrarse, tener dificultades para acordarse de las cosas, para pensar de forma clara...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omportamentale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no tener ganas de estar con gente, sentirse agobiado/a, infeliz, no poder dormir bien, abusar de la comida, alcohol, tabaco...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Según su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intensidad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frecuencia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y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duración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, pueden ser precursores de enfermedad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7680" y="380880"/>
            <a:ext cx="807876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Futura Md BT"/>
              </a:rPr>
              <a:t>Efectos: el estrés y después</a:t>
            </a:r>
            <a:endParaRPr b="1" lang="en-US" sz="32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ardiovasculare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infarto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, 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Euro Heart Network 1998, Kristensen 1996; Kivimäki  2002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Respiratorios 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hiperreactividad bronquial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sma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) (Smyth 1999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Trans. de base immunitaria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rtritis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reumatoide)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 (O’Leary 1990;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Peters  1999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Gastrointestinale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dispepsia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úlcera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péptica, síndrome del colon irritable, enfermedad de Crhon, colitis ulcerosa)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 (House 1979; Räihä 1998;  Fukudo 1987;  Drossman 1998; Paar 1998; Duffy 1991; Levenstein  2000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Dermatológico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psoriasis, neurodermitis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lergias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) (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Park 1998; Martínez, 2001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ndocrinológicos 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Lipton 1976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Musculoesqueléticas</a:t>
            </a:r>
            <a:br>
              <a:rPr sz="2400"/>
            </a:b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(dolor de espalda, contracturas) (Hemingway 1997; Bongers 1993).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Salud mental</a:t>
            </a: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(Colligan 1977;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Stansfeld 1999). 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6741" r="0" b="38764"/>
          <a:stretch/>
        </p:blipFill>
        <p:spPr>
          <a:xfrm>
            <a:off x="684360" y="260280"/>
            <a:ext cx="75546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Conocer para prevenir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Evaluar es: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identificar las exposiciones (los problemas),  medirlas (valorar la prevalencia y la gravedad),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localizarlas (ver dónde se dan más: puesto, departamento, sexo, turno...)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Para prevenir: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cambiar las características de la organización del trabajo que causan daños a la salud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¿Cómo conocemos?: realizando la evaluación de riesgos psicosociale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Hay que usar métodos basados en modelos </a:t>
            </a:r>
            <a:r>
              <a:rPr b="0" lang="es-ES" sz="3200" spc="-1" strike="noStrike">
                <a:solidFill>
                  <a:srgbClr val="333333"/>
                </a:solidFill>
                <a:latin typeface="Futura Md BT"/>
              </a:rPr>
              <a:t>científico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que expliquen salud, válidos y fiabl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4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r>
              <a:rPr b="1" lang="es-ES" sz="2400" spc="-1" strike="noStrike">
                <a:solidFill>
                  <a:srgbClr val="993366"/>
                </a:solidFill>
                <a:latin typeface="Futura Md BT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versión en castellano del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uestionario Psicosocial de Copenhagen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, del Instituto Nacional de Salud Laboral de Dinamarca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Han intervenido: AMI, ISTAS, INSHT, CSCST, UPF, UAB, M. Fraternidad, HIGIA-CONC</a:t>
            </a:r>
            <a:r>
              <a:rPr b="0" lang="es-ES" sz="28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804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Futura Md BT"/>
              </a:rPr>
              <a:t>Cuestionario individual para evaluar la organización del trabaj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Futura Md BT"/>
              </a:rPr>
              <a:t>Cuestionario anónimo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969696"/>
                </a:solidFill>
                <a:latin typeface="Futura Md BT"/>
              </a:rPr>
              <a:t>(sin identificación)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Futura Md BT"/>
              </a:rPr>
              <a:t>Tratamiento confidencial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969696"/>
                </a:solidFill>
                <a:latin typeface="Futura Md BT"/>
              </a:rPr>
              <a:t>(por personal ajeno y sujeto al mantenimiento del secreto)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Futura Md BT"/>
              </a:rPr>
              <a:t>Cuatro secciones: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969696"/>
                </a:solidFill>
                <a:latin typeface="Futura Md BT"/>
              </a:rPr>
              <a:t>datos sociodemográficos, sintomatología de estrés, condiciones de trabajo, exposición a factores de riesgos psicosoci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80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Cuestionario individual para evaluar la organización del trabajo 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11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08:41:38Z</dcterms:created>
  <dc:creator>CPU</dc:creator>
  <dc:description/>
  <dc:language>en-US</dc:language>
  <cp:lastModifiedBy>Pili</cp:lastModifiedBy>
  <cp:lastPrinted>2003-06-25T10:03:13Z</cp:lastPrinted>
  <dcterms:modified xsi:type="dcterms:W3CDTF">2005-07-21T16:02:43Z</dcterms:modified>
  <cp:revision>137</cp:revision>
  <dc:subject/>
  <dc:title>La importància de l’avaluació de l’estrès en el treball  Consorci Sanitari Parc Taulí, Sabadell 22 de Maig de 2002</dc:title>
</cp:coreProperties>
</file>