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9AC09-F548-4E02-B154-747D610F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74197-4365-48AB-87DC-DB9165E5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E633-6400-4A13-9EAB-46197FD2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099CE-D66F-402C-8E03-51EEC1D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B7408-C44D-4C7F-B45E-6A516C1B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03AB9-5623-418B-8F3A-7244BFF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D1D96-0D78-4BA1-B9F4-2051288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BB04-385B-4C33-B24F-9B97FAE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0FD91-B57A-43BA-ACC6-571095C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37D79-B6C5-41D7-B4AE-C4A07A6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4FB92-553F-476D-888F-20A5AD06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8BAD-6A66-4EA1-B655-4D58F7C9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5EF-1D67-4B75-9673-6DE385108EA0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Una nueva herramienta </a:t>
            </a:r>
            <a:br>
              <a:rPr sz="2400"/>
            </a:b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de  evaluación e intervención preventiva del riesgo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Futura Md BT"/>
              </a:rPr>
              <a:t>D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mensiones de la organización del trabajo que afectan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Exigencias psicológicas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Influencia y desarrollo en el trabajo</a:t>
            </a:r>
            <a:r>
              <a:rPr b="1" lang="es-ES_tradnl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Apoyo social y calidad de liderazg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Johnson 1988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mpensaciones </a:t>
            </a: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el trabaj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Siegrist 1990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Hall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 199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2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468360" y="333360"/>
            <a:ext cx="7554960" cy="582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752480"/>
            <a:ext cx="609480" cy="0"/>
          </a:xfrm>
          <a:prstGeom prst="line">
            <a:avLst/>
          </a:prstGeom>
          <a:ln cap="sq"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4880" y="614376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EL PAIS 22/10/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1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2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olor de espalda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y transtornos musculoesqueléticos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Hemingway 1997; Bongers 1993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 Stansfeld 1999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mportamientos sociales y relacionados con la salud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ábito de fumar, consumo de drogas, sedentarismo, participación)</a:t>
            </a:r>
            <a:r>
              <a:rPr b="0" lang="es-ES" sz="2800" spc="-1" strike="noStrike">
                <a:solidFill>
                  <a:srgbClr val="969696"/>
                </a:solidFill>
                <a:latin typeface="Futura Md BT"/>
              </a:rPr>
              <a:t> 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Antelman 1977;</a:t>
            </a:r>
            <a:r>
              <a:rPr b="0" sz="1600" spc="-1" strike="noStrike">
                <a:solidFill>
                  <a:srgbClr val="969696"/>
                </a:solidFill>
                <a:latin typeface="Futura Md BT"/>
              </a:rPr>
              <a:t> Green 1990; Mensch 1988; Green 1990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bsentismo laboral per motivos de salud </a:t>
            </a:r>
            <a:br>
              <a:rPr sz="2400"/>
            </a:b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Manning 1989; Marmot 1995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Validez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fiabilidad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nocid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Validez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tenid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gra las dimensiones de los modelos de Karasek-Theorell y Siegrist, y añade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xigencias psi. Emocionales, esconder emociones, sentido, integración, claridad y conflicto de rol, previsibilidad, refuerz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alidez aparente (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face validity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n empresas y entre los profesionales que lo han usado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struc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rrelaciones entre escal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oducción asociaciones conocidas: bibliografia modelos Karasek-Theorell y Siegrist; y datos encuesta psicosocial danesa (CoPsoQ danés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Fiabilidad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sistencia intern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de Cronbach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alta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6 a 0,9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“</a:t>
            </a: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scalas” de dos ítems: correlaciones inter-ítem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cordancia entre versiones larga y medi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Índices de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 Kappa 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alto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9 a 0,77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0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onsistencia y concordancia version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1960" y="1596960"/>
          <a:ext cx="745956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74595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I)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a cualquier ti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técnica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no hay financiación ni investigadores suficientes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operativ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sociale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qu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V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uestionari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ndividual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nónim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respuesta voluntari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nfiden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valúa la organización del trabajo a través de las experiencias de los trabajadores y trabajador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confidencialidad y anonim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a prevenir hay que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valu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dentific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edi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actores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 riesgo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Factor de riesgo: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condición de trabajo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a exposición a la cual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aumenta la probabilidad de incidencia de una enferme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Prioriz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cidir por dónde se empieza a intervenir</a:t>
            </a:r>
            <a:r>
              <a:rPr b="0" lang="es-ES" sz="2400" spc="-1" strike="noStrike">
                <a:solidFill>
                  <a:srgbClr val="ffcc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ntervenir en origen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odificar las condiciones de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 u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roceso social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(y no sólo técnico): la 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l@s trabajador@s y sus representantes en cada momento es esencia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762120"/>
            <a:ext cx="4038480" cy="563544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EVALUACIÓN DE RIESG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PSICO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ISTAS-2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Versión castellana del</a:t>
            </a:r>
            <a:r>
              <a:rPr b="0" lang="es-E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Psicosocial de Copenhag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oPsoQ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Versión 1, Enero de 210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Empresa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Centro de Trabajo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                   Fecha de respuesta: ___/___/___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l 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CopPsoQ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ue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sarrollado en el 2100 por un equipo de investigadores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 (Instituto Nacional de Salud Laboral) de Dinamarca liderado por el Prof Tage S Kristensen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u adaptación al castellano ha sido realizada por un grupo de trabajo constituido por el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Instituto Sindical de Trabajo Ambiente y Salud (ISTAS), y compuesto por: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age S Kristensen, 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,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alvador Moncada y Clara Llorens, del ISTAS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milio Castejón, Clotilde Nogareda y Silvia Nogareda, del Instituto Nacional de Seguridad e Higiene en el Trabajo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Carme Barba y Carme Ladona del Centre de Seguretat i Condicions de Salut en el Treball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ernando G Benavides y Joan Benach, de la Universitat Pompeu Fabr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eresa Torns, de la Universitat Autònoma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ulce Villegas y Mª Ángeles Palomares, de la Mutua Fraternidad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Núria García y María Menéndez, del Gabinete Higia de Comissions Obreres de Catalunya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raductores: Lluís Armangué, Carsten Jorgensen y Margit Schaltz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La Mutua Fraternidad colaboró, además, financieramente con el proyecto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Arial"/>
              </a:rPr>
              <a:t>ISTAS-21, versión castellana del CoPsoQ © Istas 2102. CoPsoQ original danés © AMI 2100. </a:t>
            </a:r>
            <a:r>
              <a:rPr b="1" lang="es-ES" sz="600" spc="-1" strike="noStrike">
                <a:solidFill>
                  <a:srgbClr val="333333"/>
                </a:solidFill>
                <a:latin typeface="Arial"/>
              </a:rPr>
              <a:t>AUTORIZADO SU USO PREVIO ACUERDO CON ISTAS. PROHIBIDO SU USO COMERCIAL Y CUALQUIER MODIFICACIÓN NO AUTORIZADA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3138" b="16989"/>
          <a:stretch/>
        </p:blipFill>
        <p:spPr>
          <a:xfrm>
            <a:off x="5334120" y="1066680"/>
            <a:ext cx="533160" cy="31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03848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65760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809880"/>
            <a:ext cx="16002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jemplo de escala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725480"/>
            <a:ext cx="7970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: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fidencialidad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s respuestas al cuestionario son anónimas: sin nombre o código de identificación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suprimirán aquellas preguntas que permitan indentificar a un/a trabajador/a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distribuirá y devolverá en condiciones que grantizan el anonimato y la confidenciali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 informatización de los cuestionarios y el análisis de datos se hará por personas sujetas al mantenimiento del secreto.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]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ones adaptadas al objetivo preventivo (investigación, evaluación, sensibilización) y tamaño de 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523880"/>
            <a:ext cx="8381880" cy="45720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5840" y="167652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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LARG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vestigación (cuestionario + manu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924680" cy="35049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429000"/>
            <a:ext cx="4343400" cy="20574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3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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MEDIO</a:t>
            </a:r>
            <a:r>
              <a:rPr b="0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valuación de riesgos para empresas de 25 o más trabajadores/as</a:t>
            </a:r>
            <a:r>
              <a:rPr b="0" lang="es-ES" sz="3000" spc="-1" strike="noStrike">
                <a:solidFill>
                  <a:srgbClr val="000099"/>
                </a:solidFill>
                <a:latin typeface="Futura Md BT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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CORT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equeñas 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icro-empresas y sensibil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 autovalorat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531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  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Tres cuestionarios en uno</a:t>
            </a:r>
            <a:r>
              <a:rPr b="1" lang="es-ES" sz="4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9080" y="3173400"/>
            <a:ext cx="292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anual de u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) Licencia de uso: requerimiento de finalidad preventiv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2800"/>
            </a:b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onocer para prevenir: frente a la burocratización, finalidad preventiva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esentantes de la dirección de la empresa y de los trabajadores han de firmar un acuerdo en el que se comprometen a utilizar el método con una finalidad preventiv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resultados deben ser considerados como oportunidades para negociar y desarrollar alternativas más saludables de organización del trabajo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b) comparación con niveles de referencia poblacional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objetivo de exposición asumible a corto plaz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on referentes ¡no valores límite!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eferente poblacional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3: Muestra representativa de la población ocupada de la CA de Navarra (n=859, en el futuro de todo el Estado), financiada por el Instituto Navarro de Salud Labor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7: valores de referencia con muestra representativa de la población ocupada española, financiada por el Fondo de Investigación Sanit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896040" y="222120"/>
            <a:ext cx="7573320" cy="3479760"/>
            <a:chOff x="896040" y="222120"/>
            <a:chExt cx="7573320" cy="3479760"/>
          </a:xfrm>
        </p:grpSpPr>
        <p:sp>
          <p:nvSpPr>
            <p:cNvPr id="155" name=""/>
            <p:cNvSpPr/>
            <p:nvPr/>
          </p:nvSpPr>
          <p:spPr>
            <a:xfrm>
              <a:off x="983880" y="239760"/>
              <a:ext cx="654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ntuaciones de todos los factores psicosociales para el conjunto de 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96040" y="460440"/>
              <a:ext cx="465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mpresa y para la población ocupada de refer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222120"/>
              <a:ext cx="7539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9720" y="235080"/>
              <a:ext cx="93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8200" y="235080"/>
              <a:ext cx="11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7360" y="69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340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4480" y="917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2840" y="113652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4412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3760" y="91764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referent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20" y="6793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9080" y="67932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676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7920" y="67932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16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2840" y="67932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80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9240" y="67932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820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20" y="692280"/>
              <a:ext cx="93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76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116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80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820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137484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8360" y="1374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2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4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9720" y="135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9080" y="135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676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7920" y="135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116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2840" y="135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80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240" y="13572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9720" y="136836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676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16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80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5820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9720" y="1604880"/>
              <a:ext cx="314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uantita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8360" y="1604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12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14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9720" y="1593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15937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676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7920" y="15937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16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2840" y="15937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80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240" y="15937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9720" y="16048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676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16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80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6560" y="1836720"/>
              <a:ext cx="305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sensori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8360" y="183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12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4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9720" y="18255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18255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676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7920" y="18255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6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18255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80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69240" y="18255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820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9720" y="18367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676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0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5820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520" y="2073240"/>
              <a:ext cx="29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ogni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8360" y="20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2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9720" y="20574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9080" y="20574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676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7920" y="20574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116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22840" y="20574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80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9240" y="20574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820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9720" y="206856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4676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80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8280" y="2305080"/>
              <a:ext cx="315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emocion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8360" y="230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12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9720" y="22939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9080" y="22939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676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7920" y="22939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16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2840" y="22939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80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9240" y="22939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5820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9720" y="23050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676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16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67320" y="254304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conder emocion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8360" y="254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2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14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9720" y="2525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9080" y="25257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676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7920" y="25257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16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2840" y="25257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580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240" y="25257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9720" y="253692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676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16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80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6200" y="27734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lu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8360" y="277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12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14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9720" y="27622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9080" y="27622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676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920" y="27622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116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2840" y="27622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580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9240" y="27622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9720" y="27734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116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80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5820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4320" y="3005280"/>
              <a:ext cx="30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sobre los tiempos de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5836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2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1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14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720" y="29941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9080" y="29941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676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7920" y="29941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16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22840" y="29941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80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9240" y="29941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5820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720" y="3005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676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16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80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5820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8880" y="3243240"/>
              <a:ext cx="22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desarroll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360" y="324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2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14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9720" y="32306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9080" y="32306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676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7920" y="32306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16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2840" y="32306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80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69240" y="32306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20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720" y="32432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4676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16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80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4080" y="3473280"/>
              <a:ext cx="159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do d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8360" y="347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2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1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9720" y="34624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9080" y="3462480"/>
              <a:ext cx="4027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676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7920" y="3462480"/>
              <a:ext cx="65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16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9720" y="3462480"/>
            <a:ext cx="7559640" cy="2814480"/>
            <a:chOff x="909720" y="3462480"/>
            <a:chExt cx="7559640" cy="2814480"/>
          </a:xfrm>
        </p:grpSpPr>
        <p:sp>
          <p:nvSpPr>
            <p:cNvPr id="356" name=""/>
            <p:cNvSpPr/>
            <p:nvPr/>
          </p:nvSpPr>
          <p:spPr>
            <a:xfrm>
              <a:off x="5622840" y="3462480"/>
              <a:ext cx="1335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9240" y="3462480"/>
              <a:ext cx="14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9720" y="3473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676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80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0320" y="371160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gración en la 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8360" y="3711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412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14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720" y="36939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9080" y="36939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7920" y="36939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16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36939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80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9240" y="36939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5820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720" y="37051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16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580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820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97560" y="39416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segur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836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412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6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14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720" y="3930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9080" y="39304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676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7920" y="39304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16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2840" y="39304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80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69240" y="39304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5820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720" y="39416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116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0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820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4680" y="4179960"/>
              <a:ext cx="124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aridad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5836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12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2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14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9720" y="41623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9080" y="41623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676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7920" y="41623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16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2840" y="41623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580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9240" y="41623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5820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9720" y="41734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76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16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80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5820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3960" y="441180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licto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58360" y="441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412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8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14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9720" y="439884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9080" y="439884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676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439884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16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2840" y="439884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580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69240" y="439884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5820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9720" y="441180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676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116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80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5820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000" y="46418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visibi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58360" y="4641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12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9720" y="46306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9080" y="46306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7920" y="46306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16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2840" y="46306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580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9240" y="46306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820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09720" y="46418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676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16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80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820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4560" y="487980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o social en 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8360" y="48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412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614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09720" y="48625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9080" y="48625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76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7920" y="48625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16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2840" y="48625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80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9240" y="48625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5820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9720" y="48736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4676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16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80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820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6200" y="511164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58360" y="511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2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14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2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720" y="50990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9080" y="50990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4676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7920" y="50990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116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22840" y="50990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80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9240" y="50990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720" y="51116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676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16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580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" y="5348160"/>
              <a:ext cx="266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relación socia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58360" y="534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412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614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9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720" y="5330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9080" y="53308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676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7920" y="53308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16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53308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80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9240" y="53308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53420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676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16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580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5820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9760" y="5580000"/>
              <a:ext cx="182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miento de grup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58360" y="5580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12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8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14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9720" y="556740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9080" y="556740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676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7920" y="556740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16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22840" y="556740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80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69240" y="556740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5820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9720" y="558000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676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16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80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5820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57600" y="5810400"/>
              <a:ext cx="174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idad de liderazg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58360" y="581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2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14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9720" y="57992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9080" y="579924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7920" y="579924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16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22840" y="579924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80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9240" y="579924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820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9720" y="581040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676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80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5820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18080" y="60483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8360" y="6048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12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14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9720" y="603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9080" y="603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4676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7920" y="603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116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2840" y="603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0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969240" y="6037200"/>
            <a:ext cx="148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60372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9720" y="6048360"/>
            <a:ext cx="93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9080" y="6267600"/>
            <a:ext cx="4027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4676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676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7920" y="6267600"/>
            <a:ext cx="65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116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116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22840" y="6267600"/>
            <a:ext cx="1335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80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69240" y="6267600"/>
            <a:ext cx="1488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 rot="16192800">
            <a:off x="-2857320" y="285588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R</a:t>
            </a:r>
            <a:r>
              <a:rPr b="0" lang="es-ES" sz="2000" spc="-1" strike="noStrike">
                <a:solidFill>
                  <a:srgbClr val="ff0000"/>
                </a:solidFill>
                <a:latin typeface="Futura Md BT"/>
              </a:rPr>
              <a:t>esultados</a:t>
            </a:r>
            <a:endParaRPr b="1" lang="en-US" sz="20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Evalu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identificar y medir la exposición a factores de ries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ctor de riesgo (laboral): condición de trabajo la exposición a la cual aumenta la probabilidad de incidencia de una enfermedad o trastorno de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(científicos) que expliquen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Los métodos deben ser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) identificación de riesgos al nivel de menor complejidad conceptual posible = dividimos los problemas y es más fácil abordarlos y buscar alterna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 que mide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uantita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ogni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emocion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de esconder emocion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sensori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fluencia en 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es de desarroll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trol sobre el tiempo de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ignificado d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tegración en la empres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revisibil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laridad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flicto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alidad de liderazg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oyo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Refuerzo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 de relacionarse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entimiento de grup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egur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stim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Exposición a riesgos psicosociales en la empresa X. Porcentaje de trabajadoras/es en cada nivel de referencia 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57200" y="1820880"/>
          <a:ext cx="72118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721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603400" y="95724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) la presentación de resultados es adaptada a la empresa y múltiple para que sea más fácil localizar el problem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Unidades de análisis más pequeña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entr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partamen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uest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ipo de contr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urn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x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(...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esentación de resultado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Principales características (VII)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36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requerimiento de participación (necesidad metodológica, imperativo democrático, exigencia operativa)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Modelo de intervención preventiva basado en la información, consulta y negoci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dirección, representantes de trabajadores/as y técnicos en todo el proceso de intervención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unidades de análisi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forma de distribución y recogid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elar por el anonimato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formar a trabajadores y trabajadora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rpretar da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municar 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proponer medidas preventivas y prioriz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(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trabajador@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El cuestionario se pasa a la totalidad de trabajador@s de la unidad que se evalua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trabajador@s deben tener puntual información del estado de la evaluación, discutir los resultados y las medidas previstas propuest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nálisis estandarizado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uso sencill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: Exposición y efect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acterísticas de la organización del trabajo (Factores psicosociales):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ganización del trabajo: su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ori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fectos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stré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nfermedad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trastornos de la salud, el bienestar y la calidad de vid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X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úblic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uso libre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atui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 encuentra en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900" spc="-1" strike="noStrike">
                <a:solidFill>
                  <a:srgbClr val="333333"/>
                </a:solidFill>
                <a:latin typeface="Futura Md BT"/>
              </a:rPr>
              <a:t>www.istas.ccoo.es</a:t>
            </a:r>
            <a:endParaRPr b="0" lang="en-US" sz="59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"/>
            <a:ext cx="5562360" cy="6095880"/>
          </a:xfrm>
          <a:prstGeom prst="downArrow">
            <a:avLst>
              <a:gd name="adj1" fmla="val 47944"/>
              <a:gd name="adj2" fmla="val 21918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7520" y="690480"/>
          <a:ext cx="86961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90480"/>
                    <a:ext cx="86961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¿Qué es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?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un metodología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ción e interven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los factores de riesgo de naturaleza psicosocial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la adaptación a la realidad española del 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PsoQ (Cuestionario Psicosocial de Copenhagen)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,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sarrollado por 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adaptaciones en España, Reino Unido, Bélgica, Países Bajos, Suecia y Brasi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quipos de trabajo de la adaptación para el estado español del CoPsoQ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internaciona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MI: TS Kristensen, V Borg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,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Traductores: L Armengué,  K Jorgensen, M Schalt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españo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 y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HT: E Castejón, C Nogareda, S Nogared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SCST: C Barba, C Ladon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PF: FG Benavides, J Benach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AB: T Tor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 Fraternidad: MA Palomares, D Villeg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epartament de Salut Laboral de la CONC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Gabinete de Estudios de Navarr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Adaptación CoPsoQ a CoPsoQ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stas2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1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1. Definiciones conceptuales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2. Comparaciones España - Dinamarc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3. Discusión conceptualde adaptación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4. Traducción danés - castellan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5. Revisión traducció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aller expert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6. Retro-traducción castellano - dané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7. Comparación original danés - retrotraduc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8.Versión de prueb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9. Prueba comprensión </a:t>
            </a:r>
            <a:r>
              <a:rPr b="0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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Versión fin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dentifica y mide factores de riesgo: características de la organización del trabajo para las que hay suficientes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idencias científica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que pueden perjudicar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arco conceptual claro y explícit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modelos “demanda-control-apoyo social” (Karasek-Johnson) y “esfuerzo - compensaciones” (Siegrist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0:16Z</dcterms:modified>
  <cp:revision>134</cp:revision>
  <dc:subject/>
  <dc:title>La importància de l’avaluació de l’estrès en el treball  Consorci Sanitari Parc Taulí, Sabadell 22 de Maig de 2002</dc:title>
</cp:coreProperties>
</file>